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1430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127-F995-440E-BBAD-7E71414F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918-5D72-477A-904C-75A9CA8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849-0582-4569-B053-AEDCE76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ECF-6300-4418-AE56-503A25C0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BC77-B342-4E9A-B16B-A53984BB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947-7FCA-4069-840C-91E8B40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AF59-EE3F-4E6E-9B42-7016BA6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1B45-B9B9-4D07-92CF-53F2CEF1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269-5C5B-426C-A46E-2F4BED5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5327-5C58-4D6B-8029-94F4FAC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7F95-5C40-46AC-9D64-CCE1E2E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D3D-9E3A-4708-9841-9F83696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0A38-EF9A-4431-A9E8-BB7C607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00CA-C3AA-4C6E-B432-EB91808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9FA0-13F7-440E-B798-326BB3E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17A-DF59-4EE8-BC7D-2412615B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31D-94D3-4BE1-BCE4-D2299C8E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7C7-B239-4F9A-B380-FD100B80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503-1208-44F1-93C3-BB35DB17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139-5D53-4403-99B8-B2D005A9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808-5911-471A-A147-4D566E9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2CC-7D7C-41F8-AF7C-0B612D9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850-0614-47D4-86A1-F62AF58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8D5-680F-4298-863F-A18A2DC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5140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248520"/>
            <a:ext cx="371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8012-1EF7-44B8-BDAC-688681785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is documentos\Documentos EDI\Exposiciones\foto2.jpg"/>
          <p:cNvPicPr/>
          <p:nvPr/>
        </p:nvPicPr>
        <p:blipFill>
          <a:blip r:embed="rId2"/>
          <a:stretch/>
        </p:blipFill>
        <p:spPr>
          <a:xfrm>
            <a:off x="0" y="0"/>
            <a:ext cx="11430000" cy="53352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380880" y="1371600"/>
            <a:ext cx="10668240" cy="0"/>
          </a:xfrm>
          <a:prstGeom prst="line">
            <a:avLst/>
          </a:prstGeom>
          <a:ln w="38160">
            <a:solidFill>
              <a:srgbClr val="5a8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0" y="0"/>
            <a:ext cx="219060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1032" descr=""/>
          <p:cNvPicPr/>
          <p:nvPr/>
        </p:nvPicPr>
        <p:blipFill>
          <a:blip r:embed="rId2"/>
          <a:srcRect l="47003" t="26000" r="0" b="63340"/>
          <a:stretch/>
        </p:blipFill>
        <p:spPr>
          <a:xfrm>
            <a:off x="0" y="3124080"/>
            <a:ext cx="1143000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141560" y="6251400"/>
            <a:ext cx="238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9256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C29-79A0-4EA2-AA9E-449F489A6A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sunat.gob.pe/cl-ad-itcodigoenvio-ws/TeledespachoCodigoEnvio.ht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sunat.gob.pe/cl-ad-itcodigoenvio-ws/TeledespachoCodigoEnvio.htm" TargetMode="External"/><Relationship Id="rId2" Type="http://schemas.openxmlformats.org/officeDocument/2006/relationships/hyperlink" Target="mailto:asigad@sunat.gob.pe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857840" y="2133720"/>
            <a:ext cx="4786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00720" y="235728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eledespacho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" name="Picture 7" descr="C:\Mis documentos\Documentos EDI\Exposiciones\foto2.jpg"/>
          <p:cNvPicPr/>
          <p:nvPr/>
        </p:nvPicPr>
        <p:blipFill>
          <a:blip r:embed="rId1"/>
          <a:stretch/>
        </p:blipFill>
        <p:spPr>
          <a:xfrm>
            <a:off x="500040" y="3714840"/>
            <a:ext cx="10929960" cy="9903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1"/>
          <p:cNvGrpSpPr/>
          <p:nvPr/>
        </p:nvGrpSpPr>
        <p:grpSpPr>
          <a:xfrm>
            <a:off x="2285640" y="152280"/>
            <a:ext cx="761400" cy="685080"/>
            <a:chOff x="2285640" y="152280"/>
            <a:chExt cx="761400" cy="685080"/>
          </a:xfrm>
        </p:grpSpPr>
        <p:grpSp>
          <p:nvGrpSpPr>
            <p:cNvPr id="92" name="Group 12"/>
            <p:cNvGrpSpPr/>
            <p:nvPr/>
          </p:nvGrpSpPr>
          <p:grpSpPr>
            <a:xfrm>
              <a:off x="2285640" y="152280"/>
              <a:ext cx="753480" cy="653040"/>
              <a:chOff x="2285640" y="152280"/>
              <a:chExt cx="753480" cy="65304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468520" y="1522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flipV="1">
                <a:off x="2285280" y="3790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5" name="Group 15"/>
            <p:cNvGrpSpPr/>
            <p:nvPr/>
          </p:nvGrpSpPr>
          <p:grpSpPr>
            <a:xfrm>
              <a:off x="2293560" y="184680"/>
              <a:ext cx="753480" cy="652680"/>
              <a:chOff x="2293560" y="184680"/>
              <a:chExt cx="753480" cy="652680"/>
            </a:xfrm>
          </p:grpSpPr>
          <p:sp>
            <p:nvSpPr>
              <p:cNvPr id="96" name="Freeform 16"/>
              <p:cNvSpPr/>
              <p:nvPr/>
            </p:nvSpPr>
            <p:spPr>
              <a:xfrm>
                <a:off x="2476440" y="1846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 flipH="1" flipV="1">
                <a:off x="2293200" y="4111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98" name="Text Box 18"/>
          <p:cNvSpPr/>
          <p:nvPr/>
        </p:nvSpPr>
        <p:spPr>
          <a:xfrm>
            <a:off x="3143160" y="152280"/>
            <a:ext cx="21909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4595040" y="478620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Nueva Clave de Enví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8911440" y="5678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gosto 201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37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38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9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40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41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2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43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10010880" cy="3591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868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2. Confirm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48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49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52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55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5880" y="27756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. Generar Clave de Enví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9726480" cy="510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60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61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62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64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65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67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8029800" cy="4552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27756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. Generar Clave de Enví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72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73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5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76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77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8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79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8853480" cy="49881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5880" y="27756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. Generar Clave de Enví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85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86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88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89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91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9639360" cy="3730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880" y="27756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. Generar Clave de Enví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15 Rectángulo redondeado"/>
          <p:cNvSpPr/>
          <p:nvPr/>
        </p:nvSpPr>
        <p:spPr>
          <a:xfrm>
            <a:off x="6786720" y="1857240"/>
            <a:ext cx="3286080" cy="3929040"/>
          </a:xfrm>
          <a:custGeom>
            <a:avLst/>
            <a:gdLst>
              <a:gd name="textAreaLeft" fmla="*/ 160200 w 3286080"/>
              <a:gd name="textAreaRight" fmla="*/ 3125880 w 3286080"/>
              <a:gd name="textAreaTop" fmla="*/ 160200 h 3929040"/>
              <a:gd name="textAreaBottom" fmla="*/ 3768840 h 3929040"/>
            </a:gdLst>
            <a:ahLst/>
            <a:rect l="textAreaLeft" t="textAreaTop" r="textAreaRight" b="textAreaBottom"/>
            <a:pathLst>
              <a:path w="21600" h="25826">
                <a:moveTo>
                  <a:pt x="3600" y="0"/>
                </a:moveTo>
                <a:arcTo wR="3600" hR="3600" stAng="16200000" swAng="-5400000"/>
                <a:lnTo>
                  <a:pt x="0" y="22226"/>
                </a:lnTo>
                <a:arcTo wR="3600" hR="3600" stAng="10800000" swAng="-5400000"/>
                <a:lnTo>
                  <a:pt x="18000" y="25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3 Nube"/>
          <p:cNvSpPr/>
          <p:nvPr/>
        </p:nvSpPr>
        <p:spPr>
          <a:xfrm>
            <a:off x="4429080" y="2500200"/>
            <a:ext cx="1427040" cy="642960"/>
          </a:xfrm>
          <a:prstGeom prst="pie">
            <a:avLst/>
          </a:prstGeom>
          <a:gradFill rotWithShape="0">
            <a:gsLst>
              <a:gs pos="0">
                <a:srgbClr val="aeb9ff"/>
              </a:gs>
              <a:gs pos="100000">
                <a:srgbClr val="e6eaff"/>
              </a:gs>
            </a:gsLst>
            <a:lin ang="16200000"/>
          </a:gradFill>
          <a:ln w="9360">
            <a:solidFill>
              <a:srgbClr val="929e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6 Rectángulo redondeado"/>
          <p:cNvSpPr/>
          <p:nvPr/>
        </p:nvSpPr>
        <p:spPr>
          <a:xfrm>
            <a:off x="1482840" y="3446640"/>
            <a:ext cx="1249200" cy="785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Cliente W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97" name="9 Conector angular"/>
          <p:cNvCxnSpPr>
            <a:stCxn id="296" idx="3"/>
            <a:endCxn id="295" idx="4"/>
          </p:cNvCxnSpPr>
          <p:nvPr/>
        </p:nvCxnSpPr>
        <p:spPr>
          <a:xfrm flipV="1">
            <a:off x="2731680" y="2820240"/>
            <a:ext cx="1702440" cy="1019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13 Rectángulo redondeado"/>
          <p:cNvSpPr/>
          <p:nvPr/>
        </p:nvSpPr>
        <p:spPr>
          <a:xfrm>
            <a:off x="7143840" y="2143080"/>
            <a:ext cx="223200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14 Rectángulo redondeado"/>
          <p:cNvSpPr/>
          <p:nvPr/>
        </p:nvSpPr>
        <p:spPr>
          <a:xfrm>
            <a:off x="7947000" y="2357280"/>
            <a:ext cx="1305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bdc2f9"/>
              </a:gs>
            </a:gsLst>
            <a:lin ang="16200000"/>
          </a:gradFill>
          <a:ln w="9360">
            <a:solidFill>
              <a:srgbClr val="c4c8f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WS Genera Clave Envi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16 Rectángulo redondeado"/>
          <p:cNvSpPr/>
          <p:nvPr/>
        </p:nvSpPr>
        <p:spPr>
          <a:xfrm>
            <a:off x="7232760" y="4071960"/>
            <a:ext cx="151920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ececec"/>
              </a:gs>
            </a:gsLst>
            <a:lin ang="16200000"/>
          </a:gradFill>
          <a:ln w="9360">
            <a:solidFill>
              <a:srgbClr val="eeeee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Genera Clave Enví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301" name="17 Conector angular"/>
          <p:cNvCxnSpPr>
            <a:stCxn id="295" idx="5"/>
            <a:endCxn id="298" idx="1"/>
          </p:cNvCxnSpPr>
          <p:nvPr/>
        </p:nvCxnSpPr>
        <p:spPr>
          <a:xfrm>
            <a:off x="5854320" y="2820960"/>
            <a:ext cx="1289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20 Conector angular"/>
          <p:cNvCxnSpPr>
            <a:stCxn id="298" idx="1"/>
            <a:endCxn id="299" idx="1"/>
          </p:cNvCxnSpPr>
          <p:nvPr/>
        </p:nvCxnSpPr>
        <p:spPr>
          <a:xfrm flipH="1" rot="10800000">
            <a:off x="7142760" y="2750400"/>
            <a:ext cx="803880" cy="72000"/>
          </a:xfrm>
          <a:prstGeom prst="bentConnector3">
            <a:avLst>
              <a:gd name="adj1" fmla="val -28405"/>
            </a:avLst>
          </a:prstGeom>
          <a:ln w="25560">
            <a:solidFill>
              <a:srgbClr val="f3f3f3"/>
            </a:solidFill>
            <a:miter/>
            <a:tailEnd len="med" type="arrow" w="med"/>
          </a:ln>
        </p:spPr>
      </p:cxnSp>
      <p:cxnSp>
        <p:nvCxnSpPr>
          <p:cNvPr id="303" name="30 Conector angular"/>
          <p:cNvCxnSpPr>
            <a:stCxn id="298" idx="2"/>
            <a:endCxn id="300" idx="0"/>
          </p:cNvCxnSpPr>
          <p:nvPr/>
        </p:nvCxnSpPr>
        <p:spPr>
          <a:xfrm rot="5400000">
            <a:off x="7840440" y="3651840"/>
            <a:ext cx="572400" cy="268920"/>
          </a:xfrm>
          <a:prstGeom prst="bentConnector3">
            <a:avLst>
              <a:gd name="adj1" fmla="val 4996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31 Disco magnético"/>
          <p:cNvSpPr/>
          <p:nvPr/>
        </p:nvSpPr>
        <p:spPr>
          <a:xfrm>
            <a:off x="8894880" y="4857840"/>
            <a:ext cx="892080" cy="642960"/>
          </a:xfrm>
          <a:prstGeom prst="flowChartMagneticDisk">
            <a:avLst/>
          </a:prstGeom>
          <a:gradFill rotWithShape="0">
            <a:gsLst>
              <a:gs pos="0">
                <a:srgbClr val="ffff95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e5e5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305" name="33 Forma"/>
          <p:cNvCxnSpPr>
            <a:stCxn id="300" idx="3"/>
            <a:endCxn id="304" idx="1"/>
          </p:cNvCxnSpPr>
          <p:nvPr/>
        </p:nvCxnSpPr>
        <p:spPr>
          <a:xfrm>
            <a:off x="8751960" y="4366800"/>
            <a:ext cx="589680" cy="491400"/>
          </a:xfrm>
          <a:prstGeom prst="bentConnector2">
            <a:avLst/>
          </a:prstGeom>
          <a:ln w="25560">
            <a:solidFill>
              <a:srgbClr val="98a3f4"/>
            </a:solidFill>
            <a:miter/>
            <a:tailEnd len="med" type="arrow" w="med"/>
          </a:ln>
        </p:spPr>
      </p:cxnSp>
      <p:sp>
        <p:nvSpPr>
          <p:cNvPr id="306" name="34 CuadroTexto"/>
          <p:cNvSpPr/>
          <p:nvPr/>
        </p:nvSpPr>
        <p:spPr>
          <a:xfrm>
            <a:off x="7368480" y="184464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WS-Security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56 CuadroTexto"/>
          <p:cNvSpPr/>
          <p:nvPr/>
        </p:nvSpPr>
        <p:spPr>
          <a:xfrm>
            <a:off x="3335760" y="254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Calibri"/>
              </a:rPr>
              <a:t>SS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56 CuadroTexto"/>
          <p:cNvSpPr/>
          <p:nvPr/>
        </p:nvSpPr>
        <p:spPr>
          <a:xfrm>
            <a:off x="6075720" y="250020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Calibri"/>
              </a:rPr>
              <a:t>SS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38 CuadroTexto"/>
          <p:cNvSpPr/>
          <p:nvPr/>
        </p:nvSpPr>
        <p:spPr>
          <a:xfrm>
            <a:off x="1106640" y="4714920"/>
            <a:ext cx="2679480" cy="596160"/>
          </a:xfrm>
          <a:prstGeom prst="rect">
            <a:avLst/>
          </a:prstGeom>
          <a:gradFill rotWithShape="0">
            <a:gsLst>
              <a:gs pos="0">
                <a:srgbClr val="aeb9ff"/>
              </a:gs>
              <a:gs pos="100000">
                <a:srgbClr val="e6eaff"/>
              </a:gs>
            </a:gsLst>
            <a:lin ang="16200000"/>
          </a:gradFill>
          <a:ln w="9360">
            <a:solidFill>
              <a:srgbClr val="929e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 u="sng">
                <a:solidFill>
                  <a:srgbClr val="000000"/>
                </a:solidFill>
                <a:uFillTx/>
                <a:latin typeface="Arial"/>
              </a:rPr>
              <a:t>TIPO OPERADO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 u="sng">
                <a:solidFill>
                  <a:srgbClr val="000000"/>
                </a:solidFill>
                <a:uFillTx/>
                <a:latin typeface="Arial"/>
              </a:rPr>
              <a:t>CODIGO OPERADO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 u="sng">
                <a:solidFill>
                  <a:srgbClr val="000000"/>
                </a:solidFill>
                <a:uFillTx/>
                <a:latin typeface="Arial"/>
              </a:rPr>
              <a:t>CLAVE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39 CuadroTexto"/>
          <p:cNvSpPr/>
          <p:nvPr/>
        </p:nvSpPr>
        <p:spPr>
          <a:xfrm>
            <a:off x="1044000" y="4357800"/>
            <a:ext cx="95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 u="sng">
                <a:solidFill>
                  <a:srgbClr val="000000"/>
                </a:solidFill>
                <a:uFillTx/>
                <a:latin typeface="Arial"/>
              </a:rPr>
              <a:t>Parámetros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15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16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17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18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19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21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5520" y="1500120"/>
            <a:ext cx="10644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s credenciales de usuario para la autenticación del operador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Tipo_de_Op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ódigo_de_Op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lave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Clave_del_Portafolio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stas se validan a través del protocolo WS-Security de la siguiente man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uario=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_de_Operador |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ódigo_de_Op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lave= Clave_del_Portafolio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6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27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28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30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31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2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33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85520" y="1499760"/>
            <a:ext cx="103582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</a:rPr>
              <a:t>UR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https://www.sunat.gob.pe/cl-ad-itcodigoenvio-ws/TeledespachoCodigoEnvio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 u="sng">
                <a:solidFill>
                  <a:srgbClr val="000000"/>
                </a:solidFill>
                <a:uFillTx/>
                <a:latin typeface="Arial"/>
              </a:rPr>
              <a:t>Método : consultarCodigoEnv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39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40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1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42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43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4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45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47" name="Picture 1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920124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50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51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52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3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54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55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6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57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13880" y="1785600"/>
            <a:ext cx="9929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respuesta del web service se retorna a través de un Bean con la siguiente inform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ódigo de Respuesta . (0 = Error, 1 = 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scripción del error. (Cuando Cod Rpta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lave de Envío (Cuando Cod Rpta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Fecha de caducidad de la clave de Envio (Cuando Cod Rpta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56800" y="1714320"/>
            <a:ext cx="900108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r a los operadores de comercio administrar su clave de envío</a:t>
            </a:r>
            <a:r>
              <a:rPr b="0" lang="es-P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misma que envían como parte de los archivos de control de Teledespa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er la seguridad de la clave de enví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103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104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5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107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8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3 Título"/>
          <p:cNvSpPr/>
          <p:nvPr/>
        </p:nvSpPr>
        <p:spPr>
          <a:xfrm>
            <a:off x="785880" y="571680"/>
            <a:ext cx="3000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Objetivo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62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63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64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66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67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69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" name="16 Rectángulo"/>
          <p:cNvSpPr/>
          <p:nvPr/>
        </p:nvSpPr>
        <p:spPr>
          <a:xfrm>
            <a:off x="785880" y="1428840"/>
            <a:ext cx="5715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CodigoEnvioBea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rotected String codigo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rotected String descExcep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rotected String fechaCaducidad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rotected String resp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CodigoEnvioBean(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String getCodigo(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return codigo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void setCodigo(String value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codigo = value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String getDescExcep(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return descExcep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75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76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77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78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79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80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81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13 Rectángulo"/>
          <p:cNvSpPr/>
          <p:nvPr/>
        </p:nvSpPr>
        <p:spPr>
          <a:xfrm>
            <a:off x="785880" y="1527120"/>
            <a:ext cx="5715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void setDescExcep(String value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descExcep = value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String getFechaCaducidad(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return fechaCaducidad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void setFechaCaducidad(String value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fechaCaducidad = value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String getResp(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return resp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public void setResp(String value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resp = value;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87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388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89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90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391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93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785880" y="2214720"/>
            <a:ext cx="9969480" cy="3930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7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399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02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403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5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785880" y="1928880"/>
            <a:ext cx="10350360" cy="38005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8552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3a. Generar Clave de Envío - W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410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411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412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14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415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17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4. Enviar archivo Teledespach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882000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422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423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424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5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26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427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8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29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9261360" cy="52275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4. Enviar archivo Teledespach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56800" y="1714320"/>
            <a:ext cx="900108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peradores de comercio podrán administrar la clave de envío </a:t>
            </a:r>
            <a:r>
              <a:rPr b="0" lang="es-P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nvían como parte de los archivos de control de Teledespa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49280" indent="87120">
              <a:lnSpc>
                <a:spcPct val="100000"/>
              </a:lnSpc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ortalece la seguridad de la clave de envío de los operadores de comer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434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435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37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438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40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1" name="3 Título"/>
          <p:cNvSpPr/>
          <p:nvPr/>
        </p:nvSpPr>
        <p:spPr>
          <a:xfrm>
            <a:off x="785880" y="571680"/>
            <a:ext cx="3000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Beneficio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85880" y="1428480"/>
            <a:ext cx="10429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URL de pruebas pil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http://64.76.79.132/ol-ad-pd/ol-ad-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http://64.76.79.132/cl-ad-itcodigoenvio-ws/TeledespachoCodigoEnvi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Correo electrónico de contac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2800" spc="-1" strike="noStrike" u="sng">
                <a:solidFill>
                  <a:srgbClr val="5a84d8"/>
                </a:solidFill>
                <a:uFillTx/>
                <a:latin typeface="Arial"/>
                <a:hlinkClick r:id="rId2"/>
              </a:rPr>
              <a:t>asigad@sunat.gob.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(El texto del asunto debe contener la palabra TELEDESPA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27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Pilot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Arial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70c0"/>
                </a:solidFill>
                <a:latin typeface="Arial"/>
              </a:rPr>
              <a:t>Ing. Jorge Chata Tint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70c0"/>
                </a:solidFill>
                <a:latin typeface="Arial"/>
              </a:rPr>
              <a:t>Intendencia Nacional de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446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447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8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49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450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51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52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743200" y="3317760"/>
            <a:ext cx="23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57160" y="571680"/>
            <a:ext cx="792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47600" y="2403360"/>
            <a:ext cx="97156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00880" y="3063960"/>
            <a:ext cx="230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4286160" y="3086280"/>
            <a:ext cx="2148120" cy="1314360"/>
          </a:xfrm>
          <a:prstGeom prst="pie">
            <a:avLst/>
          </a:prstGeom>
          <a:gradFill rotWithShape="0">
            <a:gsLst>
              <a:gs pos="0">
                <a:srgbClr val="89d0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7729560" y="2629080"/>
            <a:ext cx="1675800" cy="1980720"/>
            <a:chOff x="7729560" y="2629080"/>
            <a:chExt cx="1675800" cy="1980720"/>
          </a:xfrm>
        </p:grpSpPr>
        <p:grpSp>
          <p:nvGrpSpPr>
            <p:cNvPr id="118" name="Group 18"/>
            <p:cNvGrpSpPr/>
            <p:nvPr/>
          </p:nvGrpSpPr>
          <p:grpSpPr>
            <a:xfrm>
              <a:off x="8413920" y="2629080"/>
              <a:ext cx="991440" cy="1623600"/>
              <a:chOff x="8413920" y="2629080"/>
              <a:chExt cx="991440" cy="1623600"/>
            </a:xfrm>
          </p:grpSpPr>
          <p:sp>
            <p:nvSpPr>
              <p:cNvPr id="119" name="Freeform 19"/>
              <p:cNvSpPr/>
              <p:nvPr/>
            </p:nvSpPr>
            <p:spPr>
              <a:xfrm>
                <a:off x="8432640" y="3837240"/>
                <a:ext cx="956880" cy="415440"/>
              </a:xfrm>
              <a:prstGeom prst="pie">
                <a:avLst/>
              </a:pr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20"/>
              <p:cNvSpPr/>
              <p:nvPr/>
            </p:nvSpPr>
            <p:spPr>
              <a:xfrm>
                <a:off x="8416800" y="2629080"/>
                <a:ext cx="986760" cy="348120"/>
              </a:xfrm>
              <a:prstGeom prst="pie">
                <a:avLst/>
              </a:prstGeom>
              <a:solidFill>
                <a:srgbClr val="eaeae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1" name="Freeform 21"/>
              <p:cNvSpPr/>
              <p:nvPr/>
            </p:nvSpPr>
            <p:spPr>
              <a:xfrm>
                <a:off x="8848080" y="2724840"/>
                <a:ext cx="557280" cy="1487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2" name="Freeform 22"/>
              <p:cNvSpPr/>
              <p:nvPr/>
            </p:nvSpPr>
            <p:spPr>
              <a:xfrm>
                <a:off x="8413920" y="2866320"/>
                <a:ext cx="440280" cy="1338480"/>
              </a:xfrm>
              <a:prstGeom prst="pie">
                <a:avLst/>
              </a:pr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3" name="Line 23"/>
              <p:cNvSpPr/>
              <p:nvPr/>
            </p:nvSpPr>
            <p:spPr>
              <a:xfrm>
                <a:off x="8475480" y="3993120"/>
                <a:ext cx="304200" cy="81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4" name="Oval 24"/>
              <p:cNvSpPr/>
              <p:nvPr/>
            </p:nvSpPr>
            <p:spPr>
              <a:xfrm>
                <a:off x="8464680" y="2932200"/>
                <a:ext cx="48600" cy="2700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8475480" y="3931920"/>
                <a:ext cx="304200" cy="81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6" name="Line 26"/>
              <p:cNvSpPr/>
              <p:nvPr/>
            </p:nvSpPr>
            <p:spPr>
              <a:xfrm>
                <a:off x="8475480" y="3871080"/>
                <a:ext cx="304200" cy="83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7" name="Line 27"/>
              <p:cNvSpPr/>
              <p:nvPr/>
            </p:nvSpPr>
            <p:spPr>
              <a:xfrm>
                <a:off x="8475480" y="3811680"/>
                <a:ext cx="304200" cy="81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8" name="Line 28"/>
              <p:cNvSpPr/>
              <p:nvPr/>
            </p:nvSpPr>
            <p:spPr>
              <a:xfrm>
                <a:off x="8475480" y="3749040"/>
                <a:ext cx="304200" cy="81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9" name="Freeform 29"/>
              <p:cNvSpPr/>
              <p:nvPr/>
            </p:nvSpPr>
            <p:spPr>
              <a:xfrm>
                <a:off x="8480520" y="3165120"/>
                <a:ext cx="300600" cy="569520"/>
              </a:xfrm>
              <a:prstGeom prst="pie">
                <a:avLst/>
              </a:pr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0" name="Freeform 30"/>
              <p:cNvSpPr/>
              <p:nvPr/>
            </p:nvSpPr>
            <p:spPr>
              <a:xfrm>
                <a:off x="8448480" y="3052440"/>
                <a:ext cx="345240" cy="991440"/>
              </a:xfrm>
              <a:prstGeom prst="pie">
                <a:avLst/>
              </a:prstGeom>
              <a:noFill/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1" name="Freeform 31"/>
              <p:cNvSpPr/>
              <p:nvPr/>
            </p:nvSpPr>
            <p:spPr>
              <a:xfrm>
                <a:off x="8470800" y="3089160"/>
                <a:ext cx="307440" cy="565200"/>
              </a:xfrm>
              <a:prstGeom prst="pie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2" name="Line 32"/>
              <p:cNvSpPr/>
              <p:nvPr/>
            </p:nvSpPr>
            <p:spPr>
              <a:xfrm>
                <a:off x="8472600" y="3219480"/>
                <a:ext cx="295920" cy="6876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8472600" y="3339720"/>
                <a:ext cx="299160" cy="6912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8472600" y="3488760"/>
                <a:ext cx="284760" cy="6912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5" name="Freeform 35"/>
              <p:cNvSpPr/>
              <p:nvPr/>
            </p:nvSpPr>
            <p:spPr>
              <a:xfrm>
                <a:off x="8561520" y="3160080"/>
                <a:ext cx="117000" cy="6408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8515440" y="3169800"/>
                <a:ext cx="218160" cy="4788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Freeform 37"/>
              <p:cNvSpPr/>
              <p:nvPr/>
            </p:nvSpPr>
            <p:spPr>
              <a:xfrm>
                <a:off x="8493120" y="3389400"/>
                <a:ext cx="264240" cy="120240"/>
              </a:xfrm>
              <a:prstGeom prst="pie">
                <a:avLst/>
              </a:pr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Freeform 38"/>
              <p:cNvSpPr/>
              <p:nvPr/>
            </p:nvSpPr>
            <p:spPr>
              <a:xfrm>
                <a:off x="8493120" y="3538800"/>
                <a:ext cx="264240" cy="133200"/>
              </a:xfrm>
              <a:prstGeom prst="pie">
                <a:avLst/>
              </a:pr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Freeform 39"/>
              <p:cNvSpPr/>
              <p:nvPr/>
            </p:nvSpPr>
            <p:spPr>
              <a:xfrm>
                <a:off x="8488440" y="3254760"/>
                <a:ext cx="268920" cy="123120"/>
              </a:xfrm>
              <a:prstGeom prst="pie">
                <a:avLst/>
              </a:pr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0" name="Line 40"/>
              <p:cNvSpPr/>
              <p:nvPr/>
            </p:nvSpPr>
            <p:spPr>
              <a:xfrm flipH="1" flipV="1">
                <a:off x="8681760" y="3330000"/>
                <a:ext cx="5184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1" name="Line 41"/>
              <p:cNvSpPr/>
              <p:nvPr/>
            </p:nvSpPr>
            <p:spPr>
              <a:xfrm flipH="1" flipV="1">
                <a:off x="8681760" y="3461400"/>
                <a:ext cx="51840" cy="111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Line 42"/>
              <p:cNvSpPr/>
              <p:nvPr/>
            </p:nvSpPr>
            <p:spPr>
              <a:xfrm flipH="1" flipV="1">
                <a:off x="8681760" y="3620160"/>
                <a:ext cx="5184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143" name="Picture 43" descr="wheels"/>
            <p:cNvPicPr/>
            <p:nvPr/>
          </p:nvPicPr>
          <p:blipFill>
            <a:blip r:embed="rId2"/>
            <a:stretch/>
          </p:blipFill>
          <p:spPr>
            <a:xfrm>
              <a:off x="7729560" y="3839040"/>
              <a:ext cx="10314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Webpage"/>
          <p:cNvSpPr/>
          <p:nvPr/>
        </p:nvSpPr>
        <p:spPr>
          <a:xfrm>
            <a:off x="3005280" y="2781360"/>
            <a:ext cx="609480" cy="68580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6384a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Microsoft Sans Serif"/>
              </a:rPr>
              <a:t>Du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2852640" y="369576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6662880" y="369576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8110440" y="4838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Tahoma"/>
              </a:rPr>
              <a:t>Portal SUNA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662880" y="42292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ahoma"/>
              </a:rPr>
              <a:t>WebServices Aduanero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7043760" y="2428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ahoma"/>
              </a:rPr>
              <a:t>Portafolio Documento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7348680" y="3009960"/>
          <a:ext cx="9842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48680" y="3009960"/>
                    <a:ext cx="98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56" descr=""/>
          <p:cNvPicPr/>
          <p:nvPr/>
        </p:nvPicPr>
        <p:blipFill>
          <a:blip r:embed="rId5"/>
          <a:stretch/>
        </p:blipFill>
        <p:spPr>
          <a:xfrm>
            <a:off x="1862280" y="3162240"/>
            <a:ext cx="954000" cy="960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7"/>
          <p:cNvSpPr/>
          <p:nvPr/>
        </p:nvSpPr>
        <p:spPr>
          <a:xfrm>
            <a:off x="1785960" y="4305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Tahoma"/>
              </a:rPr>
              <a:t>Operador d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Tahoma"/>
              </a:rPr>
              <a:t>Comerci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46 Rectángulo redondeado"/>
          <p:cNvSpPr/>
          <p:nvPr/>
        </p:nvSpPr>
        <p:spPr>
          <a:xfrm>
            <a:off x="8001000" y="164304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Autenticació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del Operador d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Comerci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156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157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160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2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3 Título"/>
          <p:cNvSpPr/>
          <p:nvPr/>
        </p:nvSpPr>
        <p:spPr>
          <a:xfrm>
            <a:off x="785880" y="571680"/>
            <a:ext cx="49291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Esquema General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2 Rectángulo"/>
          <p:cNvSpPr/>
          <p:nvPr/>
        </p:nvSpPr>
        <p:spPr>
          <a:xfrm>
            <a:off x="7858080" y="5114880"/>
            <a:ext cx="1928880" cy="214200"/>
          </a:xfrm>
          <a:prstGeom prst="rect">
            <a:avLst/>
          </a:prstGeom>
          <a:noFill/>
          <a:ln w="19080">
            <a:solidFill>
              <a:srgbClr val="ff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643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1. Registr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167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168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0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171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3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4" name="Picture 15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10201320" cy="40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178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179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1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182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4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" name="Picture 16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724800" cy="4981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643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1. Registr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8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189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190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2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193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5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9726480" cy="5108400"/>
          </a:xfrm>
          <a:prstGeom prst="rect">
            <a:avLst/>
          </a:prstGeom>
          <a:ln w="0">
            <a:noFill/>
          </a:ln>
        </p:spPr>
      </p:pic>
      <p:sp>
        <p:nvSpPr>
          <p:cNvPr id="197" name="3 Título"/>
          <p:cNvSpPr/>
          <p:nvPr/>
        </p:nvSpPr>
        <p:spPr>
          <a:xfrm>
            <a:off x="785880" y="571680"/>
            <a:ext cx="76438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1. Registrar casilla de correo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01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02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05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7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809604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643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1. Registr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13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14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5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6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17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8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19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8801280" cy="4860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643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1. Registr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099"/>
          <p:cNvSpPr/>
          <p:nvPr/>
        </p:nvSpPr>
        <p:spPr>
          <a:xfrm>
            <a:off x="857160" y="0"/>
            <a:ext cx="971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Rectangle 4101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24" name="Group 11"/>
          <p:cNvGrpSpPr/>
          <p:nvPr/>
        </p:nvGrpSpPr>
        <p:grpSpPr>
          <a:xfrm>
            <a:off x="10429560" y="571680"/>
            <a:ext cx="761400" cy="685080"/>
            <a:chOff x="10429560" y="571680"/>
            <a:chExt cx="761400" cy="685080"/>
          </a:xfrm>
        </p:grpSpPr>
        <p:grpSp>
          <p:nvGrpSpPr>
            <p:cNvPr id="225" name="Group 12"/>
            <p:cNvGrpSpPr/>
            <p:nvPr/>
          </p:nvGrpSpPr>
          <p:grpSpPr>
            <a:xfrm>
              <a:off x="10429560" y="571680"/>
              <a:ext cx="753480" cy="653040"/>
              <a:chOff x="10429560" y="571680"/>
              <a:chExt cx="753480" cy="653040"/>
            </a:xfrm>
          </p:grpSpPr>
          <p:sp>
            <p:nvSpPr>
              <p:cNvPr id="226" name="Freeform 13"/>
              <p:cNvSpPr/>
              <p:nvPr/>
            </p:nvSpPr>
            <p:spPr>
              <a:xfrm>
                <a:off x="10612440" y="571680"/>
                <a:ext cx="570600" cy="426240"/>
              </a:xfrm>
              <a:prstGeom prst="pie">
                <a:avLst/>
              </a:prstGeom>
              <a:solidFill>
                <a:srgbClr val="9b052c"/>
              </a:solidFill>
              <a:ln w="12600">
                <a:solidFill>
                  <a:srgbClr val="9705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7" name="Freeform 14"/>
              <p:cNvSpPr/>
              <p:nvPr/>
            </p:nvSpPr>
            <p:spPr>
              <a:xfrm flipH="1" flipV="1">
                <a:off x="10429200" y="79848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10437480" y="604080"/>
              <a:ext cx="753480" cy="652680"/>
              <a:chOff x="10437480" y="604080"/>
              <a:chExt cx="753480" cy="652680"/>
            </a:xfrm>
          </p:grpSpPr>
          <p:sp>
            <p:nvSpPr>
              <p:cNvPr id="229" name="Freeform 16"/>
              <p:cNvSpPr/>
              <p:nvPr/>
            </p:nvSpPr>
            <p:spPr>
              <a:xfrm>
                <a:off x="10620360" y="604080"/>
                <a:ext cx="570600" cy="425880"/>
              </a:xfrm>
              <a:prstGeom prst="pie">
                <a:avLst/>
              </a:prstGeom>
              <a:solidFill>
                <a:srgbClr val="9b0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0" name="Freeform 17"/>
              <p:cNvSpPr/>
              <p:nvPr/>
            </p:nvSpPr>
            <p:spPr>
              <a:xfrm flipH="1" flipV="1">
                <a:off x="10437120" y="830520"/>
                <a:ext cx="570600" cy="4262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31" name="Text Box 18"/>
          <p:cNvSpPr/>
          <p:nvPr/>
        </p:nvSpPr>
        <p:spPr>
          <a:xfrm>
            <a:off x="10287000" y="1214280"/>
            <a:ext cx="97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 Black"/>
              </a:rPr>
              <a:t>SUNA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10230120" cy="4411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868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70c0"/>
                </a:solidFill>
                <a:latin typeface="Verdana"/>
              </a:rPr>
              <a:t>2. Confirmar casilla de corre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48:39Z</dcterms:created>
  <dc:creator>SUNAT</dc:creator>
  <dc:description/>
  <dc:language>en-US</dc:language>
  <cp:lastModifiedBy>prueba</cp:lastModifiedBy>
  <dcterms:modified xsi:type="dcterms:W3CDTF">2012-08-13T16:54:57Z</dcterms:modified>
  <cp:revision>1060</cp:revision>
  <dc:subject/>
  <dc:title>ESTADO DE LA GPGF</dc:title>
</cp:coreProperties>
</file>