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6.wmf" ContentType="image/x-wmf"/>
  <Override PartName="/ppt/media/image46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8.wmf" ContentType="image/x-wmf"/>
  <Override PartName="/ppt/media/image40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5.png" ContentType="image/png"/>
  <Override PartName="/ppt/media/image39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49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1430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345960" y="742680"/>
            <a:ext cx="61912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401A-904F-48F9-A33E-4B83D58BB0B6}" type="slidenum">
              <a:rPr b="1" lang="es-E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3D2E-585F-447F-9849-6A4517419C4C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D2DB-79C8-48AA-B76B-B1646AF8B834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AAF4-BA2B-4F8F-9B9D-36DE5A768372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DEF4-8EF4-4932-A095-3E42F9906894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6220-E86B-4FB2-AAF9-56C9401028A3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833F-7C73-480A-B426-6ACE3705CEEF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002B-B7AA-4357-A75A-DAFE7528A31E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3268-3222-41A8-95BF-2441B6A6BE80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21BE-77AE-4BD7-9C0A-9688B01141EB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74CB-8220-4124-B8F8-8052BBD385A0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FDE1-3D50-46E8-937E-28858AA6AC02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E7EC-457B-4680-9A1D-7FC4A48E3CDE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5351-718C-4443-BA33-5BFCE3B3BC94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E93D-9099-4078-BA9C-6A6330BCECA4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9C5C-72BD-4116-9DFD-303E41CB3361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6819-88B6-475D-A695-D3AEEF36444C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D21F-B0CA-4DCA-ADFB-1844C3919800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DDAC-FF8F-4F07-90C4-007612837683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95B5-4A33-41F0-A8B9-3A019228E425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7452-6945-490A-8CE3-D7D114EBF8B8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E45A-8967-431A-B23B-119AE3F0B73C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C857-46CF-477C-8D4D-4D3D0BB4C8EC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8E77-3331-43F8-88A3-85AFE551B7D3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6862-4C32-484D-B343-F844EE645F26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F9AA-0B0E-429A-AC79-7315ABF7B085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E167-C90A-4F62-B6AE-B2D90A48AE95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F87F-98AB-45CC-9B66-F2557C3BCFAE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ED8E-CE31-4362-8ECF-7270DB8063A7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D858-F5EC-474B-AFC3-9C5523AD0656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518D-8791-40A7-87C6-B48705F54005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2A0-A024-4702-8F31-67B10F88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B6F-A736-4139-BC05-D9F7610F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1C3-B026-403E-A4A2-DABD3AAB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28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1264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28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71264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834-E4BB-4980-9536-3A348397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653E-4AC1-4CDD-9D10-2F68BACE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B38D-831B-4811-BC19-E9F18CEA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BA70-2C17-4069-B76B-13F09149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27CE-AA0D-43F3-BD71-A47BB1E1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C3FA-E6FD-465F-BF51-DC84CC2D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3000" y="27756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4DF3-8775-4AD9-9E50-2BD2DF2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21DC-7029-4CFF-AB34-CA3B8B61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C34-39A6-480D-ACF1-567FEB7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A6C9-781E-4628-991C-9CE7A4DC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85A4-EF39-4BE8-83A1-A6360B5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8C13-A029-4112-8A2A-B7CED8EA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8A42-7975-4E80-8892-364EE4EE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8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71264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428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71264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5E45-D702-4328-AE1D-E0965F50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D70-4838-4367-8B31-5410DCF5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F64-AA56-42CB-9542-ACA9D261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1D7-0D52-454F-8936-7A7E3854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7756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039-720E-4E3C-A4D5-1D9D98E7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928-B07B-4025-8B28-FEF337F7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638-6CEC-4750-A3BE-BF793B1B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23B-1E74-4679-8853-81B0C6A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98a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8a3f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5140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248520"/>
            <a:ext cx="371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7692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A019-0076-4831-BF3E-58081B0930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Mis documentos\Documentos EDI\Exposiciones\foto2.jpg"/>
          <p:cNvPicPr/>
          <p:nvPr/>
        </p:nvPicPr>
        <p:blipFill>
          <a:blip r:embed="rId2"/>
          <a:stretch/>
        </p:blipFill>
        <p:spPr>
          <a:xfrm>
            <a:off x="0" y="0"/>
            <a:ext cx="11430000" cy="53352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380880" y="1371600"/>
            <a:ext cx="10668240" cy="0"/>
          </a:xfrm>
          <a:prstGeom prst="line">
            <a:avLst/>
          </a:prstGeom>
          <a:ln w="38160">
            <a:solidFill>
              <a:srgbClr val="5a84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2190600" cy="6858000"/>
          </a:xfrm>
          <a:prstGeom prst="rect">
            <a:avLst/>
          </a:prstGeom>
          <a:solidFill>
            <a:srgbClr val="98a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rcRect l="47003" t="26000" r="0" b="63340"/>
          <a:stretch/>
        </p:blipFill>
        <p:spPr>
          <a:xfrm>
            <a:off x="0" y="3124080"/>
            <a:ext cx="11430000" cy="685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8a3f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141560" y="6251400"/>
            <a:ext cx="238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92560" y="624852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7692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2A97-F074-4056-9BE7-8BC3807227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5.pn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5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5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3160" y="1571760"/>
            <a:ext cx="9715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gímen Aduanero Especial de Envíos de Entrega Rápida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7" name="Picture 7" descr="foto2"/>
          <p:cNvPicPr/>
          <p:nvPr/>
        </p:nvPicPr>
        <p:blipFill>
          <a:blip r:embed="rId3"/>
          <a:stretch/>
        </p:blipFill>
        <p:spPr>
          <a:xfrm>
            <a:off x="268200" y="3429000"/>
            <a:ext cx="10626840" cy="811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5268960" y="5357880"/>
            <a:ext cx="5178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positora :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elly Pilar Mandujano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14760" y="3962160"/>
            <a:ext cx="31431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66720" y="6019920"/>
            <a:ext cx="10001160" cy="304560"/>
          </a:xfrm>
          <a:prstGeom prst="rect">
            <a:avLst/>
          </a:prstGeom>
          <a:solidFill>
            <a:srgbClr val="000066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 u="sng">
                <a:solidFill>
                  <a:srgbClr val="ffffff"/>
                </a:solidFill>
                <a:uFillTx/>
                <a:latin typeface="Arial"/>
              </a:rPr>
              <a:t>SUNAT –  2010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785880"/>
            <a:ext cx="11430000" cy="285840"/>
          </a:xfrm>
          <a:prstGeom prst="rect">
            <a:avLst/>
          </a:prstGeom>
          <a:solidFill>
            <a:srgbClr val="000066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1 Rectángulo"/>
          <p:cNvSpPr/>
          <p:nvPr/>
        </p:nvSpPr>
        <p:spPr>
          <a:xfrm>
            <a:off x="3786120" y="4429080"/>
            <a:ext cx="1428840" cy="2143080"/>
          </a:xfrm>
          <a:prstGeom prst="rect">
            <a:avLst/>
          </a:prstGeom>
          <a:solidFill>
            <a:srgbClr val="b6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1" name="Picture 123" descr=""/>
          <p:cNvPicPr/>
          <p:nvPr/>
        </p:nvPicPr>
        <p:blipFill>
          <a:blip r:embed="rId1"/>
          <a:stretch/>
        </p:blipFill>
        <p:spPr>
          <a:xfrm>
            <a:off x="4000680" y="2786040"/>
            <a:ext cx="863280" cy="5716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1219320" y="457200"/>
            <a:ext cx="975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.- Transmisión de Información Complementari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cesos de Manifiestos - 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3" name="11 Grupo"/>
          <p:cNvGrpSpPr/>
          <p:nvPr/>
        </p:nvGrpSpPr>
        <p:grpSpPr>
          <a:xfrm>
            <a:off x="4138560" y="5715000"/>
            <a:ext cx="719280" cy="787320"/>
            <a:chOff x="4138560" y="5715000"/>
            <a:chExt cx="719280" cy="787320"/>
          </a:xfrm>
        </p:grpSpPr>
        <p:grpSp>
          <p:nvGrpSpPr>
            <p:cNvPr id="214" name="10 Grupo"/>
            <p:cNvGrpSpPr/>
            <p:nvPr/>
          </p:nvGrpSpPr>
          <p:grpSpPr>
            <a:xfrm>
              <a:off x="4138560" y="5894280"/>
              <a:ext cx="574920" cy="608040"/>
              <a:chOff x="4138560" y="5894280"/>
              <a:chExt cx="574920" cy="608040"/>
            </a:xfrm>
          </p:grpSpPr>
          <p:pic>
            <p:nvPicPr>
              <p:cNvPr id="215" name="Object 2" descr=""/>
              <p:cNvPicPr/>
              <p:nvPr/>
            </p:nvPicPr>
            <p:blipFill>
              <a:blip r:embed="rId2"/>
              <a:stretch/>
            </p:blipFill>
            <p:spPr>
              <a:xfrm>
                <a:off x="4138560" y="6000480"/>
                <a:ext cx="433800" cy="50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Object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8240" y="5894280"/>
                <a:ext cx="43524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Object 4" descr=""/>
            <p:cNvPicPr/>
            <p:nvPr/>
          </p:nvPicPr>
          <p:blipFill>
            <a:blip r:embed="rId4"/>
            <a:stretch/>
          </p:blipFill>
          <p:spPr>
            <a:xfrm>
              <a:off x="4424400" y="5715000"/>
              <a:ext cx="433440" cy="50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12 Multidocumento"/>
          <p:cNvSpPr/>
          <p:nvPr/>
        </p:nvSpPr>
        <p:spPr>
          <a:xfrm>
            <a:off x="4000680" y="5143680"/>
            <a:ext cx="928440" cy="500040"/>
          </a:xfrm>
          <a:prstGeom prst="flowChartMultidocument">
            <a:avLst/>
          </a:prstGeom>
          <a:solidFill>
            <a:srgbClr val="7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9" name="13 CuadroTexto"/>
          <p:cNvSpPr/>
          <p:nvPr/>
        </p:nvSpPr>
        <p:spPr>
          <a:xfrm>
            <a:off x="3929040" y="4857840"/>
            <a:ext cx="121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Transporte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679920" y="4500720"/>
            <a:ext cx="16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anifiesto Carg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21" name="18 Grupo"/>
          <p:cNvGrpSpPr/>
          <p:nvPr/>
        </p:nvGrpSpPr>
        <p:grpSpPr>
          <a:xfrm>
            <a:off x="1119240" y="2651040"/>
            <a:ext cx="652320" cy="750960"/>
            <a:chOff x="1119240" y="2651040"/>
            <a:chExt cx="652320" cy="750960"/>
          </a:xfrm>
        </p:grpSpPr>
        <p:grpSp>
          <p:nvGrpSpPr>
            <p:cNvPr id="222" name="10 Grupo"/>
            <p:cNvGrpSpPr/>
            <p:nvPr/>
          </p:nvGrpSpPr>
          <p:grpSpPr>
            <a:xfrm>
              <a:off x="1119240" y="2793960"/>
              <a:ext cx="507960" cy="608040"/>
              <a:chOff x="1119240" y="2793960"/>
              <a:chExt cx="507960" cy="608040"/>
            </a:xfrm>
          </p:grpSpPr>
          <p:pic>
            <p:nvPicPr>
              <p:cNvPr id="223" name="Object 8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9240" y="2900160"/>
                <a:ext cx="433440" cy="50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Object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191960" y="2793960"/>
                <a:ext cx="43524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" name="Object 10" descr=""/>
            <p:cNvPicPr/>
            <p:nvPr/>
          </p:nvPicPr>
          <p:blipFill>
            <a:blip r:embed="rId7"/>
            <a:stretch/>
          </p:blipFill>
          <p:spPr>
            <a:xfrm>
              <a:off x="1338120" y="2651040"/>
              <a:ext cx="433440" cy="50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Object 11" descr=""/>
          <p:cNvPicPr/>
          <p:nvPr/>
        </p:nvPicPr>
        <p:blipFill>
          <a:blip r:embed="rId8"/>
          <a:stretch/>
        </p:blipFill>
        <p:spPr>
          <a:xfrm>
            <a:off x="2428920" y="2863800"/>
            <a:ext cx="433440" cy="50184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12" descr=""/>
          <p:cNvPicPr/>
          <p:nvPr/>
        </p:nvPicPr>
        <p:blipFill>
          <a:blip r:embed="rId9"/>
          <a:stretch/>
        </p:blipFill>
        <p:spPr>
          <a:xfrm>
            <a:off x="2500200" y="2757600"/>
            <a:ext cx="435240" cy="501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14240" y="1857240"/>
            <a:ext cx="16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anifiesto E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26 Documento"/>
          <p:cNvSpPr/>
          <p:nvPr/>
        </p:nvSpPr>
        <p:spPr>
          <a:xfrm>
            <a:off x="2357280" y="2786040"/>
            <a:ext cx="571680" cy="428760"/>
          </a:xfrm>
          <a:prstGeom prst="flowChartDocument">
            <a:avLst/>
          </a:prstGeom>
          <a:solidFill>
            <a:srgbClr val="b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Transp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27 CuadroTexto"/>
          <p:cNvSpPr/>
          <p:nvPr/>
        </p:nvSpPr>
        <p:spPr>
          <a:xfrm>
            <a:off x="2500200" y="185724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cta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28 Conector recto"/>
          <p:cNvSpPr/>
          <p:nvPr/>
        </p:nvSpPr>
        <p:spPr>
          <a:xfrm>
            <a:off x="928800" y="2286000"/>
            <a:ext cx="121428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380880" y="3844800"/>
            <a:ext cx="21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32 Conector recto"/>
          <p:cNvSpPr/>
          <p:nvPr/>
        </p:nvSpPr>
        <p:spPr>
          <a:xfrm flipV="1">
            <a:off x="2319480" y="2286000"/>
            <a:ext cx="1538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4857840" y="178596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inicio de traslado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5" name="Picture 24" descr=""/>
          <p:cNvPicPr/>
          <p:nvPr/>
        </p:nvPicPr>
        <p:blipFill>
          <a:blip r:embed="rId10"/>
          <a:stretch/>
        </p:blipFill>
        <p:spPr>
          <a:xfrm>
            <a:off x="5072040" y="2500200"/>
            <a:ext cx="1357200" cy="85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2" descr="10-Solidaridad-Peru-DHL"/>
          <p:cNvPicPr/>
          <p:nvPr/>
        </p:nvPicPr>
        <p:blipFill>
          <a:blip r:embed="rId11"/>
          <a:stretch/>
        </p:blipFill>
        <p:spPr>
          <a:xfrm>
            <a:off x="6738840" y="2500200"/>
            <a:ext cx="1363680" cy="8575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6572160" y="178452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termino del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9537840" y="178272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ormación Confirmatori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9" name="49 Conector recto"/>
          <p:cNvSpPr/>
          <p:nvPr/>
        </p:nvSpPr>
        <p:spPr>
          <a:xfrm>
            <a:off x="9858240" y="2286000"/>
            <a:ext cx="11430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0" name="50 Multidocumento"/>
          <p:cNvSpPr/>
          <p:nvPr/>
        </p:nvSpPr>
        <p:spPr>
          <a:xfrm>
            <a:off x="9858240" y="2643120"/>
            <a:ext cx="928800" cy="785880"/>
          </a:xfrm>
          <a:prstGeom prst="flowChartMultidocument">
            <a:avLst/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51 CuadroTexto"/>
          <p:cNvSpPr/>
          <p:nvPr/>
        </p:nvSpPr>
        <p:spPr>
          <a:xfrm>
            <a:off x="9882360" y="2928960"/>
            <a:ext cx="64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Datado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54 Esquina doblada"/>
          <p:cNvSpPr/>
          <p:nvPr/>
        </p:nvSpPr>
        <p:spPr>
          <a:xfrm>
            <a:off x="3214800" y="2500200"/>
            <a:ext cx="571320" cy="928800"/>
          </a:xfrm>
          <a:prstGeom prst="foldedCorner">
            <a:avLst>
              <a:gd name="adj" fmla="val 16666"/>
            </a:avLst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55 Flecha derecha"/>
          <p:cNvSpPr/>
          <p:nvPr/>
        </p:nvSpPr>
        <p:spPr>
          <a:xfrm>
            <a:off x="3000240" y="2857680"/>
            <a:ext cx="2145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4" name="58 Flecha izquierda y arriba"/>
          <p:cNvSpPr/>
          <p:nvPr/>
        </p:nvSpPr>
        <p:spPr>
          <a:xfrm>
            <a:off x="5286240" y="5072040"/>
            <a:ext cx="5214960" cy="357120"/>
          </a:xfrm>
          <a:prstGeom prst="pi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5" name="63 CuadroTexto"/>
          <p:cNvSpPr/>
          <p:nvPr/>
        </p:nvSpPr>
        <p:spPr>
          <a:xfrm>
            <a:off x="785880" y="4498920"/>
            <a:ext cx="171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Arial"/>
              </a:rPr>
              <a:t>2  Horas antes llegada medio de transporte.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6" name="Picture 15" descr="inspeccion-quesos"/>
          <p:cNvPicPr/>
          <p:nvPr/>
        </p:nvPicPr>
        <p:blipFill>
          <a:blip r:embed="rId12"/>
          <a:stretch/>
        </p:blipFill>
        <p:spPr>
          <a:xfrm>
            <a:off x="8263080" y="2500200"/>
            <a:ext cx="1380960" cy="963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9"/>
          <p:cNvSpPr/>
          <p:nvPr/>
        </p:nvSpPr>
        <p:spPr>
          <a:xfrm>
            <a:off x="8358120" y="185724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arja al Detall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9715680" y="37861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929120" y="3381480"/>
            <a:ext cx="335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del punto de llegada hacia el Dep. Temp. EER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53 Conector recto"/>
          <p:cNvSpPr/>
          <p:nvPr/>
        </p:nvSpPr>
        <p:spPr>
          <a:xfrm>
            <a:off x="5072040" y="3643200"/>
            <a:ext cx="3071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1" name="59 Conector recto"/>
          <p:cNvSpPr/>
          <p:nvPr/>
        </p:nvSpPr>
        <p:spPr>
          <a:xfrm>
            <a:off x="2357280" y="37861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61 Conector recto"/>
          <p:cNvSpPr/>
          <p:nvPr/>
        </p:nvSpPr>
        <p:spPr>
          <a:xfrm>
            <a:off x="928800" y="3786120"/>
            <a:ext cx="12142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64 Conector recto"/>
          <p:cNvSpPr/>
          <p:nvPr/>
        </p:nvSpPr>
        <p:spPr>
          <a:xfrm>
            <a:off x="828684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4" name="68 Conector recto"/>
          <p:cNvSpPr/>
          <p:nvPr/>
        </p:nvSpPr>
        <p:spPr>
          <a:xfrm>
            <a:off x="9929880" y="3786120"/>
            <a:ext cx="107136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5" name="73 CuadroTexto"/>
          <p:cNvSpPr/>
          <p:nvPr/>
        </p:nvSpPr>
        <p:spPr>
          <a:xfrm>
            <a:off x="3929040" y="38955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legada d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a nav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74 Conector recto"/>
          <p:cNvSpPr/>
          <p:nvPr/>
        </p:nvSpPr>
        <p:spPr>
          <a:xfrm>
            <a:off x="3929040" y="3786120"/>
            <a:ext cx="10000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7" name="78 Conector recto"/>
          <p:cNvSpPr/>
          <p:nvPr/>
        </p:nvSpPr>
        <p:spPr>
          <a:xfrm>
            <a:off x="5072040" y="3776760"/>
            <a:ext cx="4581720" cy="9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2214720" y="38131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857920" y="3857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osito Temporal 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0" name="54 Conector recto"/>
          <p:cNvSpPr/>
          <p:nvPr/>
        </p:nvSpPr>
        <p:spPr>
          <a:xfrm>
            <a:off x="507204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1" name="57 Conector recto"/>
          <p:cNvSpPr/>
          <p:nvPr/>
        </p:nvSpPr>
        <p:spPr>
          <a:xfrm>
            <a:off x="671508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7215120" y="492912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roceso de Dat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071800" y="285840"/>
            <a:ext cx="8572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Información Confirmatoria EER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1714680" y="928800"/>
            <a:ext cx="8143560" cy="553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3"/>
          <p:cNvSpPr/>
          <p:nvPr/>
        </p:nvSpPr>
        <p:spPr>
          <a:xfrm>
            <a:off x="2071800" y="285840"/>
            <a:ext cx="82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Información Confirmatoria EER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3"/>
          <a:stretch/>
        </p:blipFill>
        <p:spPr>
          <a:xfrm>
            <a:off x="1500120" y="928800"/>
            <a:ext cx="807732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nformación Confirmatoria - Validacion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3"/>
          <a:stretch/>
        </p:blipFill>
        <p:spPr>
          <a:xfrm>
            <a:off x="2000160" y="1357200"/>
            <a:ext cx="7425000" cy="4548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02800" y="713880"/>
            <a:ext cx="9858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2214720" y="1428840"/>
            <a:ext cx="6885000" cy="4662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nformación Confirmatoria - Validacion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76 Rectángulo"/>
          <p:cNvSpPr/>
          <p:nvPr/>
        </p:nvSpPr>
        <p:spPr>
          <a:xfrm>
            <a:off x="857160" y="4929120"/>
            <a:ext cx="1857600" cy="1571760"/>
          </a:xfrm>
          <a:prstGeom prst="rect">
            <a:avLst/>
          </a:prstGeom>
          <a:solidFill>
            <a:srgbClr val="b6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886200" y="3743280"/>
            <a:ext cx="23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286000" y="500040"/>
            <a:ext cx="7572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047600" y="2403360"/>
            <a:ext cx="971568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4476600" y="152280"/>
            <a:ext cx="257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785880" y="428760"/>
            <a:ext cx="975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.- Numeración DS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CESO DE DESPACHO - DS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6743880" y="3489480"/>
            <a:ext cx="23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785880" y="62150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50021"/>
                </a:solidFill>
                <a:latin typeface="Arial"/>
              </a:rPr>
              <a:t>Proceso de carga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3352680" y="3848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000680" y="4048200"/>
            <a:ext cx="15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Registro Ingreso DT EE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1" name="Line 31"/>
          <p:cNvSpPr/>
          <p:nvPr/>
        </p:nvSpPr>
        <p:spPr>
          <a:xfrm flipV="1">
            <a:off x="2000160" y="3848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2" name="Text Box 32"/>
          <p:cNvSpPr/>
          <p:nvPr/>
        </p:nvSpPr>
        <p:spPr>
          <a:xfrm>
            <a:off x="1262160" y="407196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Transmisión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de la DS EE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(Numera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93" name="Group 33"/>
          <p:cNvGrpSpPr/>
          <p:nvPr/>
        </p:nvGrpSpPr>
        <p:grpSpPr>
          <a:xfrm>
            <a:off x="857160" y="2857680"/>
            <a:ext cx="714240" cy="713880"/>
            <a:chOff x="857160" y="2857680"/>
            <a:chExt cx="714240" cy="713880"/>
          </a:xfrm>
        </p:grpSpPr>
        <p:pic>
          <p:nvPicPr>
            <p:cNvPr id="294" name="Object 1024" descr=""/>
            <p:cNvPicPr/>
            <p:nvPr/>
          </p:nvPicPr>
          <p:blipFill>
            <a:blip r:embed="rId1"/>
            <a:stretch/>
          </p:blipFill>
          <p:spPr>
            <a:xfrm>
              <a:off x="857160" y="3070440"/>
              <a:ext cx="433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Object 1025" descr=""/>
            <p:cNvPicPr/>
            <p:nvPr/>
          </p:nvPicPr>
          <p:blipFill>
            <a:blip r:embed="rId2"/>
            <a:stretch/>
          </p:blipFill>
          <p:spPr>
            <a:xfrm>
              <a:off x="997560" y="2963880"/>
              <a:ext cx="43344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Object 1026" descr=""/>
            <p:cNvPicPr/>
            <p:nvPr/>
          </p:nvPicPr>
          <p:blipFill>
            <a:blip r:embed="rId3"/>
            <a:stretch/>
          </p:blipFill>
          <p:spPr>
            <a:xfrm>
              <a:off x="1137960" y="2857680"/>
              <a:ext cx="433440" cy="50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51"/>
          <p:cNvSpPr/>
          <p:nvPr/>
        </p:nvSpPr>
        <p:spPr>
          <a:xfrm>
            <a:off x="7733520" y="51436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99"/>
                </a:solidFill>
                <a:latin typeface="Arial"/>
              </a:rPr>
              <a:t>06 HORAS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8" name="Line 52"/>
          <p:cNvSpPr/>
          <p:nvPr/>
        </p:nvSpPr>
        <p:spPr>
          <a:xfrm flipV="1">
            <a:off x="1000080" y="3848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99" name="Picture 53" descr=""/>
          <p:cNvPicPr/>
          <p:nvPr/>
        </p:nvPicPr>
        <p:blipFill>
          <a:blip r:embed="rId4"/>
          <a:stretch/>
        </p:blipFill>
        <p:spPr>
          <a:xfrm>
            <a:off x="1714680" y="2743200"/>
            <a:ext cx="690480" cy="896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4"/>
          <p:cNvSpPr/>
          <p:nvPr/>
        </p:nvSpPr>
        <p:spPr>
          <a:xfrm>
            <a:off x="285840" y="4071960"/>
            <a:ext cx="117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Numera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Manifiesto  EE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1" name="Picture 55" descr=""/>
          <p:cNvPicPr/>
          <p:nvPr/>
        </p:nvPicPr>
        <p:blipFill>
          <a:blip r:embed="rId5"/>
          <a:stretch/>
        </p:blipFill>
        <p:spPr>
          <a:xfrm>
            <a:off x="4143240" y="2590920"/>
            <a:ext cx="1582920" cy="10522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58"/>
          <p:cNvSpPr/>
          <p:nvPr/>
        </p:nvSpPr>
        <p:spPr>
          <a:xfrm>
            <a:off x="642960" y="164304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Arial"/>
              </a:rPr>
              <a:t>EMPRESA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Arial"/>
              </a:rPr>
              <a:t>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Text Box 60"/>
          <p:cNvSpPr/>
          <p:nvPr/>
        </p:nvSpPr>
        <p:spPr>
          <a:xfrm>
            <a:off x="90676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Arial"/>
              </a:rPr>
              <a:t>SUNAT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Oval 63"/>
          <p:cNvSpPr/>
          <p:nvPr/>
        </p:nvSpPr>
        <p:spPr>
          <a:xfrm>
            <a:off x="9234360" y="3625920"/>
            <a:ext cx="254160" cy="203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Oval 64"/>
          <p:cNvSpPr/>
          <p:nvPr/>
        </p:nvSpPr>
        <p:spPr>
          <a:xfrm>
            <a:off x="9582120" y="3625920"/>
            <a:ext cx="254160" cy="20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Line 66"/>
          <p:cNvSpPr/>
          <p:nvPr/>
        </p:nvSpPr>
        <p:spPr>
          <a:xfrm>
            <a:off x="4014720" y="2214720"/>
            <a:ext cx="205740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7" name="Line 68"/>
          <p:cNvSpPr/>
          <p:nvPr/>
        </p:nvSpPr>
        <p:spPr>
          <a:xfrm flipV="1">
            <a:off x="6072120" y="2214360"/>
            <a:ext cx="0" cy="1522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Line 69"/>
          <p:cNvSpPr/>
          <p:nvPr/>
        </p:nvSpPr>
        <p:spPr>
          <a:xfrm flipV="1">
            <a:off x="4014720" y="2204640"/>
            <a:ext cx="0" cy="1522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Text Box 112"/>
          <p:cNvSpPr/>
          <p:nvPr/>
        </p:nvSpPr>
        <p:spPr>
          <a:xfrm>
            <a:off x="5429160" y="407196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99"/>
                </a:solidFill>
                <a:latin typeface="Arial"/>
              </a:rPr>
              <a:t>Asigna Canal Control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10" name="Picture 123" descr=""/>
          <p:cNvPicPr/>
          <p:nvPr/>
        </p:nvPicPr>
        <p:blipFill>
          <a:blip r:embed="rId6"/>
          <a:stretch/>
        </p:blipFill>
        <p:spPr>
          <a:xfrm>
            <a:off x="1314360" y="5143680"/>
            <a:ext cx="1042920" cy="1062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25"/>
          <p:cNvSpPr/>
          <p:nvPr/>
        </p:nvSpPr>
        <p:spPr>
          <a:xfrm>
            <a:off x="8858160" y="4114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Diligencia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DS EE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Text Box 126"/>
          <p:cNvSpPr/>
          <p:nvPr/>
        </p:nvSpPr>
        <p:spPr>
          <a:xfrm>
            <a:off x="7716600" y="54910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Arial"/>
              </a:rPr>
              <a:t>LEVANTE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3" name="Text Box 129"/>
          <p:cNvSpPr/>
          <p:nvPr/>
        </p:nvSpPr>
        <p:spPr>
          <a:xfrm>
            <a:off x="857160" y="4929120"/>
            <a:ext cx="214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1a29c7"/>
                </a:solidFill>
                <a:latin typeface="Arial"/>
              </a:rPr>
              <a:t>arribo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Oval 138"/>
          <p:cNvSpPr/>
          <p:nvPr/>
        </p:nvSpPr>
        <p:spPr>
          <a:xfrm>
            <a:off x="6572160" y="3654360"/>
            <a:ext cx="254160" cy="203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5" name="Oval 139"/>
          <p:cNvSpPr/>
          <p:nvPr/>
        </p:nvSpPr>
        <p:spPr>
          <a:xfrm>
            <a:off x="6881760" y="3654360"/>
            <a:ext cx="25416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6" name="AutoShape 141"/>
          <p:cNvSpPr/>
          <p:nvPr/>
        </p:nvSpPr>
        <p:spPr>
          <a:xfrm>
            <a:off x="6286680" y="4857840"/>
            <a:ext cx="4286160" cy="214200"/>
          </a:xfrm>
          <a:prstGeom prst="leftRightArrow">
            <a:avLst>
              <a:gd name="adj1" fmla="val 50000"/>
              <a:gd name="adj2" fmla="val 300151"/>
            </a:avLst>
          </a:prstGeom>
          <a:solidFill>
            <a:srgbClr val="9c9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7" name="Text Box 145"/>
          <p:cNvSpPr/>
          <p:nvPr/>
        </p:nvSpPr>
        <p:spPr>
          <a:xfrm>
            <a:off x="3260880" y="5857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a50021"/>
                </a:solidFill>
                <a:latin typeface="Arial"/>
              </a:rPr>
              <a:t>LEVANTE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8" name="71 Conector recto"/>
          <p:cNvSpPr/>
          <p:nvPr/>
        </p:nvSpPr>
        <p:spPr>
          <a:xfrm>
            <a:off x="857160" y="2357280"/>
            <a:ext cx="178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9" name="73 Conector recto"/>
          <p:cNvSpPr/>
          <p:nvPr/>
        </p:nvSpPr>
        <p:spPr>
          <a:xfrm>
            <a:off x="1643040" y="264312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Text Box 129"/>
          <p:cNvSpPr/>
          <p:nvPr/>
        </p:nvSpPr>
        <p:spPr>
          <a:xfrm>
            <a:off x="1519200" y="235728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50021"/>
                </a:solidFill>
                <a:latin typeface="Arial"/>
              </a:rPr>
              <a:t>Ag. Aduan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1" name="Text Box 70"/>
          <p:cNvSpPr/>
          <p:nvPr/>
        </p:nvSpPr>
        <p:spPr>
          <a:xfrm>
            <a:off x="2790000" y="4071960"/>
            <a:ext cx="116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Liquidació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Cancelació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2" name="Oval 41"/>
          <p:cNvSpPr/>
          <p:nvPr/>
        </p:nvSpPr>
        <p:spPr>
          <a:xfrm>
            <a:off x="5746680" y="3000240"/>
            <a:ext cx="254160" cy="203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3" name="Oval 42"/>
          <p:cNvSpPr/>
          <p:nvPr/>
        </p:nvSpPr>
        <p:spPr>
          <a:xfrm>
            <a:off x="5746680" y="3328920"/>
            <a:ext cx="25416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5746680" y="2643120"/>
            <a:ext cx="254160" cy="203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25" name="82 Imagen" descr="Ventanilla.jpg"/>
          <p:cNvPicPr/>
          <p:nvPr/>
        </p:nvPicPr>
        <p:blipFill>
          <a:blip r:embed="rId7"/>
          <a:stretch/>
        </p:blipFill>
        <p:spPr>
          <a:xfrm>
            <a:off x="2786040" y="261144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70"/>
          <p:cNvSpPr/>
          <p:nvPr/>
        </p:nvSpPr>
        <p:spPr>
          <a:xfrm>
            <a:off x="5643360" y="4522680"/>
            <a:ext cx="47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0000"/>
                </a:solidFill>
                <a:latin typeface="Arial"/>
              </a:rPr>
              <a:t>Pago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3786120" y="15717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Arial"/>
              </a:rPr>
              <a:t>Depósito Temporal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Arial"/>
              </a:rPr>
              <a:t>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28" name="Picture 20" descr="j0284934"/>
          <p:cNvPicPr/>
          <p:nvPr/>
        </p:nvPicPr>
        <p:blipFill>
          <a:blip r:embed="rId8"/>
          <a:srcRect l="14141" t="-16632" r="0" b="0"/>
          <a:stretch/>
        </p:blipFill>
        <p:spPr>
          <a:xfrm>
            <a:off x="6215040" y="2714760"/>
            <a:ext cx="1247760" cy="8571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70"/>
          <p:cNvSpPr/>
          <p:nvPr/>
        </p:nvSpPr>
        <p:spPr>
          <a:xfrm>
            <a:off x="6226920" y="4000680"/>
            <a:ext cx="129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Recepció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Documentaria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99"/>
                </a:solidFill>
                <a:latin typeface="Arial"/>
              </a:rPr>
              <a:t>GED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0" name="Text Box 70"/>
          <p:cNvSpPr/>
          <p:nvPr/>
        </p:nvSpPr>
        <p:spPr>
          <a:xfrm>
            <a:off x="7512480" y="4048200"/>
            <a:ext cx="13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Confirmació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De la GED-D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99"/>
                </a:solidFill>
                <a:latin typeface="Arial"/>
              </a:rPr>
              <a:t>EE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31" name="93 Imagen" descr="untitled.bmp"/>
          <p:cNvPicPr/>
          <p:nvPr/>
        </p:nvPicPr>
        <p:blipFill>
          <a:blip r:embed="rId9"/>
          <a:stretch/>
        </p:blipFill>
        <p:spPr>
          <a:xfrm>
            <a:off x="7572240" y="2500200"/>
            <a:ext cx="1143000" cy="1116000"/>
          </a:xfrm>
          <a:prstGeom prst="rect">
            <a:avLst/>
          </a:prstGeom>
          <a:ln w="0">
            <a:noFill/>
          </a:ln>
        </p:spPr>
      </p:pic>
      <p:sp>
        <p:nvSpPr>
          <p:cNvPr id="332" name="Oval 139"/>
          <p:cNvSpPr/>
          <p:nvPr/>
        </p:nvSpPr>
        <p:spPr>
          <a:xfrm>
            <a:off x="8175600" y="3654360"/>
            <a:ext cx="254160" cy="203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33" name="Picture 53" descr=""/>
          <p:cNvPicPr/>
          <p:nvPr/>
        </p:nvPicPr>
        <p:blipFill>
          <a:blip r:embed="rId10"/>
          <a:stretch/>
        </p:blipFill>
        <p:spPr>
          <a:xfrm>
            <a:off x="9177480" y="2571840"/>
            <a:ext cx="690480" cy="896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2" descr=""/>
          <p:cNvPicPr/>
          <p:nvPr/>
        </p:nvPicPr>
        <p:blipFill>
          <a:blip r:embed="rId11"/>
          <a:stretch/>
        </p:blipFill>
        <p:spPr>
          <a:xfrm>
            <a:off x="9582120" y="2825640"/>
            <a:ext cx="704880" cy="552600"/>
          </a:xfrm>
          <a:prstGeom prst="rect">
            <a:avLst/>
          </a:prstGeom>
          <a:ln w="0">
            <a:noFill/>
          </a:ln>
        </p:spPr>
      </p:pic>
      <p:sp>
        <p:nvSpPr>
          <p:cNvPr id="335" name="Oval 44"/>
          <p:cNvSpPr/>
          <p:nvPr/>
        </p:nvSpPr>
        <p:spPr>
          <a:xfrm>
            <a:off x="4500720" y="5511960"/>
            <a:ext cx="253800" cy="2030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Text Box 70"/>
          <p:cNvSpPr/>
          <p:nvPr/>
        </p:nvSpPr>
        <p:spPr>
          <a:xfrm>
            <a:off x="4429080" y="5500800"/>
            <a:ext cx="292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99"/>
                </a:solidFill>
                <a:latin typeface="Arial"/>
              </a:rPr>
              <a:t>Cancelación + Tarja al detalle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7" name="Oval 138"/>
          <p:cNvSpPr/>
          <p:nvPr/>
        </p:nvSpPr>
        <p:spPr>
          <a:xfrm>
            <a:off x="4500720" y="5786280"/>
            <a:ext cx="253800" cy="203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8" name="Oval 139"/>
          <p:cNvSpPr/>
          <p:nvPr/>
        </p:nvSpPr>
        <p:spPr>
          <a:xfrm>
            <a:off x="4500720" y="6357960"/>
            <a:ext cx="253800" cy="203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Oval 138"/>
          <p:cNvSpPr/>
          <p:nvPr/>
        </p:nvSpPr>
        <p:spPr>
          <a:xfrm>
            <a:off x="4500720" y="6072120"/>
            <a:ext cx="253800" cy="203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0" name="103 Cerrar llave"/>
          <p:cNvSpPr/>
          <p:nvPr/>
        </p:nvSpPr>
        <p:spPr>
          <a:xfrm>
            <a:off x="4857840" y="5929200"/>
            <a:ext cx="46080" cy="571680"/>
          </a:xfrm>
          <a:custGeom>
            <a:avLst/>
            <a:gdLst>
              <a:gd name="textAreaLeft" fmla="*/ 0 w 46080"/>
              <a:gd name="textAreaRight" fmla="*/ 16560 w 46080"/>
              <a:gd name="textAreaTop" fmla="*/ 1080 h 571680"/>
              <a:gd name="textAreaBottom" fmla="*/ 57060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3"/>
                  <a:pt x="10800" y="145"/>
                </a:cubicBezTo>
                <a:lnTo>
                  <a:pt x="10800" y="10655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3"/>
                  <a:pt x="10800" y="10945"/>
                </a:cubicBezTo>
                <a:lnTo>
                  <a:pt x="10800" y="21455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Text Box 70"/>
          <p:cNvSpPr/>
          <p:nvPr/>
        </p:nvSpPr>
        <p:spPr>
          <a:xfrm>
            <a:off x="4714920" y="5999040"/>
            <a:ext cx="250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99"/>
                </a:solidFill>
                <a:latin typeface="Arial"/>
              </a:rPr>
              <a:t>Cancelación + Tarja al detalle + diligencia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2" name="Oval 138"/>
          <p:cNvSpPr/>
          <p:nvPr/>
        </p:nvSpPr>
        <p:spPr>
          <a:xfrm>
            <a:off x="7858080" y="3643200"/>
            <a:ext cx="254160" cy="203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3" name="Oval 138"/>
          <p:cNvSpPr/>
          <p:nvPr/>
        </p:nvSpPr>
        <p:spPr>
          <a:xfrm>
            <a:off x="9929880" y="3643200"/>
            <a:ext cx="253800" cy="203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108 Conector recto"/>
          <p:cNvSpPr/>
          <p:nvPr/>
        </p:nvSpPr>
        <p:spPr>
          <a:xfrm>
            <a:off x="1000080" y="4000680"/>
            <a:ext cx="928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>
            <a:off x="4929120" y="385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>
            <a:off x="5857920" y="385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6858000" y="385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Line 11"/>
          <p:cNvSpPr/>
          <p:nvPr/>
        </p:nvSpPr>
        <p:spPr>
          <a:xfrm>
            <a:off x="8143920" y="385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Line 11"/>
          <p:cNvSpPr/>
          <p:nvPr/>
        </p:nvSpPr>
        <p:spPr>
          <a:xfrm>
            <a:off x="9715680" y="3857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114 Abrir llave"/>
          <p:cNvSpPr/>
          <p:nvPr/>
        </p:nvSpPr>
        <p:spPr>
          <a:xfrm>
            <a:off x="4357800" y="5429160"/>
            <a:ext cx="46080" cy="128592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1285920"/>
              <a:gd name="textAreaBottom" fmla="*/ 128484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"/>
                  <a:pt x="10800" y="64"/>
                </a:cubicBezTo>
                <a:lnTo>
                  <a:pt x="10800" y="10736"/>
                </a:lnTo>
                <a:cubicBezTo>
                  <a:pt x="10800" y="10768"/>
                  <a:pt x="5400" y="10800"/>
                  <a:pt x="0" y="10800"/>
                </a:cubicBezTo>
                <a:cubicBezTo>
                  <a:pt x="5400" y="10800"/>
                  <a:pt x="10800" y="10832"/>
                  <a:pt x="10800" y="10864"/>
                </a:cubicBezTo>
                <a:lnTo>
                  <a:pt x="10800" y="21536"/>
                </a:lnTo>
                <a:cubicBezTo>
                  <a:pt x="10800" y="21568"/>
                  <a:pt x="16200" y="21600"/>
                  <a:pt x="21600" y="21600"/>
                </a:cubicBezTo>
              </a:path>
            </a:pathLst>
          </a:cu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71440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Numeración DS EER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3"/>
          <a:stretch/>
        </p:blipFill>
        <p:spPr>
          <a:xfrm>
            <a:off x="1857240" y="1143000"/>
            <a:ext cx="7270920" cy="45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1440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Numeración DS EER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3"/>
          <a:stretch/>
        </p:blipFill>
        <p:spPr>
          <a:xfrm>
            <a:off x="2286000" y="1000080"/>
            <a:ext cx="710712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71440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Numeración DS EER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2960" y="714240"/>
            <a:ext cx="9912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2286000" y="928800"/>
            <a:ext cx="6858000" cy="5681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71440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Numeración DS EER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2428920" y="928800"/>
            <a:ext cx="7358040" cy="5610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22860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1.-  Alcanc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5560" y="1571760"/>
            <a:ext cx="89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égimen Aduanero :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Envío de Entrega Ráp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rma                       : 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D. S. 011-2008-EF  (Regl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    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D. S. 137-2010-EF  (Modificato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gencia                    :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01 / 02 /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uanas                    :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Intendencia Aduana Aérea del Call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71440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Transacción - Numeración  </a:t>
            </a:r>
            <a:r>
              <a:rPr b="1" i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Detalle </a:t>
            </a:r>
            <a:r>
              <a:rPr b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DS EER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2428920" y="857160"/>
            <a:ext cx="7215120" cy="567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2652840" y="1019160"/>
            <a:ext cx="6875280" cy="54100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271476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Transacción - Numeración  </a:t>
            </a:r>
            <a:r>
              <a:rPr b="1" i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Detalle </a:t>
            </a:r>
            <a:r>
              <a:rPr b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DS EER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071800" y="357120"/>
            <a:ext cx="971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Transacción - Numeración  </a:t>
            </a:r>
            <a:r>
              <a:rPr b="1" i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Detalle </a:t>
            </a:r>
            <a:r>
              <a:rPr b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DS EER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2286000" y="949320"/>
            <a:ext cx="6929280" cy="5908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286000" y="35712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Transacción - Numeración  </a:t>
            </a:r>
            <a:r>
              <a:rPr b="1" i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Detalle </a:t>
            </a:r>
            <a:r>
              <a:rPr b="1" lang="es-ES" sz="2400" spc="-1" strike="noStrike">
                <a:solidFill>
                  <a:srgbClr val="1326b3"/>
                </a:solidFill>
                <a:latin typeface="Arial"/>
                <a:ea typeface="Arial"/>
              </a:rPr>
              <a:t>DS EER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3"/>
          <a:stretch/>
        </p:blipFill>
        <p:spPr>
          <a:xfrm>
            <a:off x="2214720" y="1214280"/>
            <a:ext cx="72133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alidaciones Numeración DS EER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3"/>
          <a:stretch/>
        </p:blipFill>
        <p:spPr>
          <a:xfrm>
            <a:off x="2500200" y="928800"/>
            <a:ext cx="7072560" cy="500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4"/>
          <a:stretch/>
        </p:blipFill>
        <p:spPr>
          <a:xfrm>
            <a:off x="2500200" y="1500120"/>
            <a:ext cx="7056720" cy="5048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856800" y="856800"/>
            <a:ext cx="100378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3"/>
          <a:stretch/>
        </p:blipFill>
        <p:spPr>
          <a:xfrm>
            <a:off x="2500200" y="857160"/>
            <a:ext cx="7072560" cy="500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4"/>
          <a:stretch/>
        </p:blipFill>
        <p:spPr>
          <a:xfrm>
            <a:off x="2500200" y="1373040"/>
            <a:ext cx="7000920" cy="49849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alidaciones Numeración DS EER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856800" y="856800"/>
            <a:ext cx="100378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2500200" y="928800"/>
            <a:ext cx="7072560" cy="500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"/>
          <p:cNvPicPr/>
          <p:nvPr/>
        </p:nvPicPr>
        <p:blipFill>
          <a:blip r:embed="rId4"/>
          <a:stretch/>
        </p:blipFill>
        <p:spPr>
          <a:xfrm>
            <a:off x="2500200" y="1357200"/>
            <a:ext cx="7072560" cy="51609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alidaciones Numeración DS EER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802800" y="713880"/>
            <a:ext cx="9858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57184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.- Rectificación DS EER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f53ea"/>
                </a:solidFill>
                <a:latin typeface="Arial"/>
                <a:ea typeface="Arial"/>
              </a:rPr>
              <a:t>Transacción - </a:t>
            </a:r>
            <a:r>
              <a:rPr b="1" i="1" lang="es-ES" sz="2400" spc="-1" strike="noStrike">
                <a:solidFill>
                  <a:srgbClr val="3f53ea"/>
                </a:solidFill>
                <a:latin typeface="Arial"/>
                <a:ea typeface="Arial"/>
              </a:rPr>
              <a:t>Rectificación</a:t>
            </a:r>
            <a:r>
              <a:rPr b="1" lang="es-ES" sz="2400" spc="-1" strike="noStrike">
                <a:solidFill>
                  <a:srgbClr val="3f53ea"/>
                </a:solidFill>
                <a:latin typeface="Arial"/>
                <a:ea typeface="Arial"/>
              </a:rPr>
              <a:t>  DS EER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3"/>
          <a:stretch/>
        </p:blipFill>
        <p:spPr>
          <a:xfrm>
            <a:off x="1714680" y="2000160"/>
            <a:ext cx="8286480" cy="306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5" name="Picture 4" descr=""/>
          <p:cNvPicPr/>
          <p:nvPr/>
        </p:nvPicPr>
        <p:blipFill>
          <a:blip r:embed="rId3"/>
          <a:stretch/>
        </p:blipFill>
        <p:spPr>
          <a:xfrm>
            <a:off x="3286080" y="928800"/>
            <a:ext cx="5024520" cy="55767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atos Generales - Rectific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atos Generales - Rectific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3156120" y="2000160"/>
            <a:ext cx="5078160" cy="7146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3156120" y="2714760"/>
            <a:ext cx="509256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3" descr=""/>
          <p:cNvPicPr/>
          <p:nvPr/>
        </p:nvPicPr>
        <p:blipFill>
          <a:blip r:embed="rId1"/>
          <a:stretch/>
        </p:blipFill>
        <p:spPr>
          <a:xfrm>
            <a:off x="4000680" y="2786040"/>
            <a:ext cx="863280" cy="571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1219320" y="457200"/>
            <a:ext cx="975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cesos de Manifiestos - 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8" name="18 Grupo"/>
          <p:cNvGrpSpPr/>
          <p:nvPr/>
        </p:nvGrpSpPr>
        <p:grpSpPr>
          <a:xfrm>
            <a:off x="1119240" y="2651040"/>
            <a:ext cx="652320" cy="750960"/>
            <a:chOff x="1119240" y="2651040"/>
            <a:chExt cx="652320" cy="750960"/>
          </a:xfrm>
        </p:grpSpPr>
        <p:grpSp>
          <p:nvGrpSpPr>
            <p:cNvPr id="109" name="10 Grupo"/>
            <p:cNvGrpSpPr/>
            <p:nvPr/>
          </p:nvGrpSpPr>
          <p:grpSpPr>
            <a:xfrm>
              <a:off x="1119240" y="2793960"/>
              <a:ext cx="507960" cy="608040"/>
              <a:chOff x="1119240" y="2793960"/>
              <a:chExt cx="507960" cy="608040"/>
            </a:xfrm>
          </p:grpSpPr>
          <p:pic>
            <p:nvPicPr>
              <p:cNvPr id="110" name="Objec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119240" y="2900160"/>
                <a:ext cx="433440" cy="50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1960" y="2793960"/>
                <a:ext cx="43524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2" name="Object 10" descr=""/>
            <p:cNvPicPr/>
            <p:nvPr/>
          </p:nvPicPr>
          <p:blipFill>
            <a:blip r:embed="rId4"/>
            <a:stretch/>
          </p:blipFill>
          <p:spPr>
            <a:xfrm>
              <a:off x="1338120" y="2651040"/>
              <a:ext cx="433440" cy="50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Object 11" descr=""/>
          <p:cNvPicPr/>
          <p:nvPr/>
        </p:nvPicPr>
        <p:blipFill>
          <a:blip r:embed="rId5"/>
          <a:stretch/>
        </p:blipFill>
        <p:spPr>
          <a:xfrm>
            <a:off x="2428920" y="2863800"/>
            <a:ext cx="433440" cy="50184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12" descr=""/>
          <p:cNvPicPr/>
          <p:nvPr/>
        </p:nvPicPr>
        <p:blipFill>
          <a:blip r:embed="rId6"/>
          <a:stretch/>
        </p:blipFill>
        <p:spPr>
          <a:xfrm>
            <a:off x="2500200" y="2757600"/>
            <a:ext cx="435240" cy="501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714240" y="1857240"/>
            <a:ext cx="16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anifiesto E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26 Documento"/>
          <p:cNvSpPr/>
          <p:nvPr/>
        </p:nvSpPr>
        <p:spPr>
          <a:xfrm>
            <a:off x="2357280" y="2786040"/>
            <a:ext cx="571680" cy="428760"/>
          </a:xfrm>
          <a:prstGeom prst="flowChartDocument">
            <a:avLst/>
          </a:prstGeom>
          <a:solidFill>
            <a:srgbClr val="b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Transp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27 CuadroTexto"/>
          <p:cNvSpPr/>
          <p:nvPr/>
        </p:nvSpPr>
        <p:spPr>
          <a:xfrm>
            <a:off x="2500200" y="185724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cta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28 Conector recto"/>
          <p:cNvSpPr/>
          <p:nvPr/>
        </p:nvSpPr>
        <p:spPr>
          <a:xfrm>
            <a:off x="928800" y="2286000"/>
            <a:ext cx="121428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Text Box 58"/>
          <p:cNvSpPr/>
          <p:nvPr/>
        </p:nvSpPr>
        <p:spPr>
          <a:xfrm>
            <a:off x="380880" y="3844800"/>
            <a:ext cx="21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32 Conector recto"/>
          <p:cNvSpPr/>
          <p:nvPr/>
        </p:nvSpPr>
        <p:spPr>
          <a:xfrm flipV="1">
            <a:off x="2319480" y="2286000"/>
            <a:ext cx="1538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857840" y="178596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inicio de traslado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2" name="Picture 24" descr=""/>
          <p:cNvPicPr/>
          <p:nvPr/>
        </p:nvPicPr>
        <p:blipFill>
          <a:blip r:embed="rId7"/>
          <a:stretch/>
        </p:blipFill>
        <p:spPr>
          <a:xfrm>
            <a:off x="5072040" y="2500200"/>
            <a:ext cx="1357200" cy="85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2" descr="10-Solidaridad-Peru-DHL"/>
          <p:cNvPicPr/>
          <p:nvPr/>
        </p:nvPicPr>
        <p:blipFill>
          <a:blip r:embed="rId8"/>
          <a:stretch/>
        </p:blipFill>
        <p:spPr>
          <a:xfrm>
            <a:off x="6738840" y="2500200"/>
            <a:ext cx="1363680" cy="857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6572160" y="178452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termino del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537840" y="178272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ormación Confirmatori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49 Conector recto"/>
          <p:cNvSpPr/>
          <p:nvPr/>
        </p:nvSpPr>
        <p:spPr>
          <a:xfrm>
            <a:off x="9858240" y="2286000"/>
            <a:ext cx="11430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54 Esquina doblada"/>
          <p:cNvSpPr/>
          <p:nvPr/>
        </p:nvSpPr>
        <p:spPr>
          <a:xfrm>
            <a:off x="3214800" y="2500200"/>
            <a:ext cx="571320" cy="928800"/>
          </a:xfrm>
          <a:prstGeom prst="foldedCorner">
            <a:avLst>
              <a:gd name="adj" fmla="val 16666"/>
            </a:avLst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55 Flecha derecha"/>
          <p:cNvSpPr/>
          <p:nvPr/>
        </p:nvSpPr>
        <p:spPr>
          <a:xfrm>
            <a:off x="3000240" y="2857680"/>
            <a:ext cx="2145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63 CuadroTexto"/>
          <p:cNvSpPr/>
          <p:nvPr/>
        </p:nvSpPr>
        <p:spPr>
          <a:xfrm>
            <a:off x="785880" y="4498920"/>
            <a:ext cx="171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Arial"/>
              </a:rPr>
              <a:t>2  Horas antes llegada medio de transporte.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358120" y="185724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arja a Detall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9715680" y="37861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929120" y="3381480"/>
            <a:ext cx="335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del punto de llegada hacia el Dep. Temp. EER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53 Conector recto"/>
          <p:cNvSpPr/>
          <p:nvPr/>
        </p:nvSpPr>
        <p:spPr>
          <a:xfrm>
            <a:off x="5072040" y="3643200"/>
            <a:ext cx="3071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59 Conector recto"/>
          <p:cNvSpPr/>
          <p:nvPr/>
        </p:nvSpPr>
        <p:spPr>
          <a:xfrm>
            <a:off x="2357280" y="37861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61 Conector recto"/>
          <p:cNvSpPr/>
          <p:nvPr/>
        </p:nvSpPr>
        <p:spPr>
          <a:xfrm>
            <a:off x="928800" y="3786120"/>
            <a:ext cx="12142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64 Conector recto"/>
          <p:cNvSpPr/>
          <p:nvPr/>
        </p:nvSpPr>
        <p:spPr>
          <a:xfrm>
            <a:off x="828684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68 Conector recto"/>
          <p:cNvSpPr/>
          <p:nvPr/>
        </p:nvSpPr>
        <p:spPr>
          <a:xfrm>
            <a:off x="9929880" y="3786120"/>
            <a:ext cx="107136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73 CuadroTexto"/>
          <p:cNvSpPr/>
          <p:nvPr/>
        </p:nvSpPr>
        <p:spPr>
          <a:xfrm>
            <a:off x="3929040" y="38955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legada d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a nav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74 Conector recto"/>
          <p:cNvSpPr/>
          <p:nvPr/>
        </p:nvSpPr>
        <p:spPr>
          <a:xfrm>
            <a:off x="3929040" y="3786120"/>
            <a:ext cx="10000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78 Conector recto"/>
          <p:cNvSpPr/>
          <p:nvPr/>
        </p:nvSpPr>
        <p:spPr>
          <a:xfrm>
            <a:off x="5072040" y="3776760"/>
            <a:ext cx="4581720" cy="9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2214720" y="38131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Text Box 58"/>
          <p:cNvSpPr/>
          <p:nvPr/>
        </p:nvSpPr>
        <p:spPr>
          <a:xfrm>
            <a:off x="5857920" y="3857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osito Temporal 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54 Conector recto"/>
          <p:cNvSpPr/>
          <p:nvPr/>
        </p:nvSpPr>
        <p:spPr>
          <a:xfrm>
            <a:off x="507204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57 Conector recto"/>
          <p:cNvSpPr/>
          <p:nvPr/>
        </p:nvSpPr>
        <p:spPr>
          <a:xfrm>
            <a:off x="671508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5" name="Picture 41" descr=""/>
          <p:cNvPicPr/>
          <p:nvPr/>
        </p:nvPicPr>
        <p:blipFill>
          <a:blip r:embed="rId9"/>
          <a:stretch/>
        </p:blipFill>
        <p:spPr>
          <a:xfrm>
            <a:off x="8286840" y="2357280"/>
            <a:ext cx="1366920" cy="135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"/>
          <p:cNvPicPr/>
          <p:nvPr/>
        </p:nvPicPr>
        <p:blipFill>
          <a:blip r:embed="rId10"/>
          <a:stretch/>
        </p:blipFill>
        <p:spPr>
          <a:xfrm>
            <a:off x="9786960" y="2357280"/>
            <a:ext cx="1436760" cy="1357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atos </a:t>
            </a:r>
            <a:r>
              <a:rPr b="1" i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etalle</a:t>
            </a: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 - Rectific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3"/>
          <a:stretch/>
        </p:blipFill>
        <p:spPr>
          <a:xfrm>
            <a:off x="3429000" y="1000080"/>
            <a:ext cx="5000760" cy="569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atos </a:t>
            </a:r>
            <a:r>
              <a:rPr b="1" i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etalle</a:t>
            </a: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 - Rectific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3"/>
          <a:stretch/>
        </p:blipFill>
        <p:spPr>
          <a:xfrm>
            <a:off x="3286080" y="1000080"/>
            <a:ext cx="514368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4"/>
          <a:stretch/>
        </p:blipFill>
        <p:spPr>
          <a:xfrm>
            <a:off x="3286080" y="1357200"/>
            <a:ext cx="5143680" cy="5321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atos </a:t>
            </a:r>
            <a:r>
              <a:rPr b="1" i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etalle</a:t>
            </a: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 - Rectific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3"/>
          <a:stretch/>
        </p:blipFill>
        <p:spPr>
          <a:xfrm>
            <a:off x="3286080" y="1000080"/>
            <a:ext cx="5143680" cy="403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4"/>
          <a:stretch/>
        </p:blipFill>
        <p:spPr>
          <a:xfrm>
            <a:off x="3286080" y="1357200"/>
            <a:ext cx="514368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atos </a:t>
            </a:r>
            <a:r>
              <a:rPr b="1" i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Detalle</a:t>
            </a: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 - Rectificabl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3"/>
          <a:stretch/>
        </p:blipFill>
        <p:spPr>
          <a:xfrm>
            <a:off x="3286080" y="1000080"/>
            <a:ext cx="5143680" cy="403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4"/>
          <a:stretch/>
        </p:blipFill>
        <p:spPr>
          <a:xfrm>
            <a:off x="3286080" y="1357200"/>
            <a:ext cx="5143680" cy="537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56800" y="857160"/>
            <a:ext cx="100378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alidaciones Generales DS EER 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tx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2643120" y="857160"/>
            <a:ext cx="6981840" cy="566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571320" y="928440"/>
            <a:ext cx="10072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ara la RECTIFICACIÓN  AUTOMÁTICA adicionalmente,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l sistema verifica que el manifiesto EER asociado a la DS, no tenga registrada fecha de inicio de traslado, del punto de llegada al depósito temporal 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l sistema verifica que el manifiesto EER no tenga actas de incautación, inmovilización, avisos de inspección registradas en el SIGEDA (acción de control extraordinario ni medida preventiv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l sistema verifica que la DS no tenga canal de control asign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l sistema verifica  que todos los campos a rectificar, correspondan a  rectificación automática según el catalogo de datos rectificables de la DS 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No tenga diferencial de tributos pendiente de p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l sistema verifica que la DS EER no haya sido objeto de rectificación (por evaluación, aceptada). Si fuera así, las siguientes rectificaciones serán previa evalu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s-PE" sz="1800" spc="-1" strike="noStrike">
                <a:solidFill>
                  <a:srgbClr val="000000"/>
                </a:solidFill>
                <a:latin typeface="Arial"/>
              </a:rPr>
              <a:t>En caso de no cumplirse las condiciones indicadas,  la rectificación será procesada  con evaluación previa.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1326b3"/>
                </a:solidFill>
                <a:uFillTx/>
                <a:latin typeface="Arial"/>
                <a:ea typeface="Arial"/>
              </a:rPr>
              <a:t>Rectificación Automátic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3" descr=""/>
          <p:cNvPicPr/>
          <p:nvPr/>
        </p:nvPicPr>
        <p:blipFill>
          <a:blip r:embed="rId1"/>
          <a:stretch/>
        </p:blipFill>
        <p:spPr>
          <a:xfrm>
            <a:off x="4572000" y="2643120"/>
            <a:ext cx="1079640" cy="714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1219320" y="457200"/>
            <a:ext cx="975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cesos de Manifiestos - 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" name="18 Grupo"/>
          <p:cNvGrpSpPr/>
          <p:nvPr/>
        </p:nvGrpSpPr>
        <p:grpSpPr>
          <a:xfrm>
            <a:off x="1690560" y="2651040"/>
            <a:ext cx="652680" cy="750960"/>
            <a:chOff x="1690560" y="2651040"/>
            <a:chExt cx="652680" cy="750960"/>
          </a:xfrm>
        </p:grpSpPr>
        <p:grpSp>
          <p:nvGrpSpPr>
            <p:cNvPr id="150" name="10 Grupo"/>
            <p:cNvGrpSpPr/>
            <p:nvPr/>
          </p:nvGrpSpPr>
          <p:grpSpPr>
            <a:xfrm>
              <a:off x="1690560" y="2793960"/>
              <a:ext cx="508320" cy="608040"/>
              <a:chOff x="1690560" y="2793960"/>
              <a:chExt cx="508320" cy="608040"/>
            </a:xfrm>
          </p:grpSpPr>
          <p:pic>
            <p:nvPicPr>
              <p:cNvPr id="151" name="Objec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0560" y="2900160"/>
                <a:ext cx="433800" cy="50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3640" y="2793960"/>
                <a:ext cx="43524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10" descr=""/>
            <p:cNvPicPr/>
            <p:nvPr/>
          </p:nvPicPr>
          <p:blipFill>
            <a:blip r:embed="rId4"/>
            <a:stretch/>
          </p:blipFill>
          <p:spPr>
            <a:xfrm>
              <a:off x="1909800" y="2651040"/>
              <a:ext cx="433440" cy="50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Object 11" descr=""/>
          <p:cNvPicPr/>
          <p:nvPr/>
        </p:nvPicPr>
        <p:blipFill>
          <a:blip r:embed="rId5"/>
          <a:stretch/>
        </p:blipFill>
        <p:spPr>
          <a:xfrm>
            <a:off x="3000240" y="2863800"/>
            <a:ext cx="433440" cy="50184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12" descr=""/>
          <p:cNvPicPr/>
          <p:nvPr/>
        </p:nvPicPr>
        <p:blipFill>
          <a:blip r:embed="rId6"/>
          <a:stretch/>
        </p:blipFill>
        <p:spPr>
          <a:xfrm>
            <a:off x="3071880" y="2757600"/>
            <a:ext cx="434880" cy="501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1214280" y="1857240"/>
            <a:ext cx="16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anifiesto E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26 Documento"/>
          <p:cNvSpPr/>
          <p:nvPr/>
        </p:nvSpPr>
        <p:spPr>
          <a:xfrm>
            <a:off x="2928960" y="2786040"/>
            <a:ext cx="571320" cy="428760"/>
          </a:xfrm>
          <a:prstGeom prst="flowChartDocument">
            <a:avLst/>
          </a:prstGeom>
          <a:solidFill>
            <a:srgbClr val="b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Transp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27 CuadroTexto"/>
          <p:cNvSpPr/>
          <p:nvPr/>
        </p:nvSpPr>
        <p:spPr>
          <a:xfrm>
            <a:off x="3071880" y="1857240"/>
            <a:ext cx="12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cta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28 Conector recto"/>
          <p:cNvSpPr/>
          <p:nvPr/>
        </p:nvSpPr>
        <p:spPr>
          <a:xfrm>
            <a:off x="1500120" y="2286000"/>
            <a:ext cx="121464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Text Box 58"/>
          <p:cNvSpPr/>
          <p:nvPr/>
        </p:nvSpPr>
        <p:spPr>
          <a:xfrm>
            <a:off x="1428840" y="3857760"/>
            <a:ext cx="150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32 Conector recto"/>
          <p:cNvSpPr/>
          <p:nvPr/>
        </p:nvSpPr>
        <p:spPr>
          <a:xfrm flipV="1">
            <a:off x="2890800" y="2286000"/>
            <a:ext cx="1538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643720" y="178596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inicio de traslado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3" name="Picture 24" descr=""/>
          <p:cNvPicPr/>
          <p:nvPr/>
        </p:nvPicPr>
        <p:blipFill>
          <a:blip r:embed="rId7"/>
          <a:stretch/>
        </p:blipFill>
        <p:spPr>
          <a:xfrm>
            <a:off x="5776920" y="2500200"/>
            <a:ext cx="1357200" cy="857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2" descr="10-Solidaridad-Peru-DHL"/>
          <p:cNvPicPr/>
          <p:nvPr/>
        </p:nvPicPr>
        <p:blipFill>
          <a:blip r:embed="rId8"/>
          <a:stretch/>
        </p:blipFill>
        <p:spPr>
          <a:xfrm>
            <a:off x="7500960" y="2500200"/>
            <a:ext cx="1363680" cy="857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7277040" y="178452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termino del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54 Esquina doblada"/>
          <p:cNvSpPr/>
          <p:nvPr/>
        </p:nvSpPr>
        <p:spPr>
          <a:xfrm>
            <a:off x="3786120" y="2500200"/>
            <a:ext cx="571680" cy="928800"/>
          </a:xfrm>
          <a:prstGeom prst="foldedCorner">
            <a:avLst>
              <a:gd name="adj" fmla="val 16666"/>
            </a:avLst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55 Flecha derecha"/>
          <p:cNvSpPr/>
          <p:nvPr/>
        </p:nvSpPr>
        <p:spPr>
          <a:xfrm>
            <a:off x="3571920" y="2857680"/>
            <a:ext cx="21420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63 CuadroTexto"/>
          <p:cNvSpPr/>
          <p:nvPr/>
        </p:nvSpPr>
        <p:spPr>
          <a:xfrm>
            <a:off x="1428840" y="4786200"/>
            <a:ext cx="171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Arial"/>
              </a:rPr>
              <a:t>2  Horas antes llegada medio de transporte.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9" name="Picture 15" descr="inspeccion-quesos"/>
          <p:cNvPicPr/>
          <p:nvPr/>
        </p:nvPicPr>
        <p:blipFill>
          <a:blip r:embed="rId9"/>
          <a:stretch/>
        </p:blipFill>
        <p:spPr>
          <a:xfrm>
            <a:off x="8967960" y="2500200"/>
            <a:ext cx="1380960" cy="963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9063000" y="185724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arja al Detall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643720" y="3357720"/>
            <a:ext cx="335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del punto de llegada hacia el Dep. Temp. EER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53 Conector recto"/>
          <p:cNvSpPr/>
          <p:nvPr/>
        </p:nvSpPr>
        <p:spPr>
          <a:xfrm>
            <a:off x="5776920" y="3643200"/>
            <a:ext cx="3071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59 Conector recto"/>
          <p:cNvSpPr/>
          <p:nvPr/>
        </p:nvSpPr>
        <p:spPr>
          <a:xfrm>
            <a:off x="2928960" y="37861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61 Conector recto"/>
          <p:cNvSpPr/>
          <p:nvPr/>
        </p:nvSpPr>
        <p:spPr>
          <a:xfrm>
            <a:off x="1500120" y="3786120"/>
            <a:ext cx="12146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64 Conector recto"/>
          <p:cNvSpPr/>
          <p:nvPr/>
        </p:nvSpPr>
        <p:spPr>
          <a:xfrm>
            <a:off x="899172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73 CuadroTexto"/>
          <p:cNvSpPr/>
          <p:nvPr/>
        </p:nvSpPr>
        <p:spPr>
          <a:xfrm>
            <a:off x="4643280" y="3929040"/>
            <a:ext cx="10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legada d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a nav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74 Conector recto"/>
          <p:cNvSpPr/>
          <p:nvPr/>
        </p:nvSpPr>
        <p:spPr>
          <a:xfrm>
            <a:off x="4500720" y="3786120"/>
            <a:ext cx="11430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78 Conector recto"/>
          <p:cNvSpPr/>
          <p:nvPr/>
        </p:nvSpPr>
        <p:spPr>
          <a:xfrm>
            <a:off x="5776920" y="3776760"/>
            <a:ext cx="4581360" cy="9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Text Box 58"/>
          <p:cNvSpPr/>
          <p:nvPr/>
        </p:nvSpPr>
        <p:spPr>
          <a:xfrm>
            <a:off x="2786040" y="38131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Text Box 58"/>
          <p:cNvSpPr/>
          <p:nvPr/>
        </p:nvSpPr>
        <p:spPr>
          <a:xfrm>
            <a:off x="6562800" y="3857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osito Temporal 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54 Conector recto"/>
          <p:cNvSpPr/>
          <p:nvPr/>
        </p:nvSpPr>
        <p:spPr>
          <a:xfrm>
            <a:off x="577692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57 Conector recto"/>
          <p:cNvSpPr/>
          <p:nvPr/>
        </p:nvSpPr>
        <p:spPr>
          <a:xfrm>
            <a:off x="741996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643120" y="285840"/>
            <a:ext cx="978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- Transmisión de la Tarja al Detalle  EER 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Tarja al Detalle de EER 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56800" y="1285560"/>
            <a:ext cx="9929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2286000" y="1214280"/>
            <a:ext cx="669132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-88920" y="14292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14292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1440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Tarja al Detalle de EER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1857240" y="928800"/>
            <a:ext cx="761868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732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Tarja al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Detalle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de EER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295080" y="929520"/>
            <a:ext cx="483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Verdana"/>
              </a:rPr>
              <a:t>Estructura del DUIMGUIA-Arch.de las Guías Aéreas de la DUIM Mensajería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2286000" y="1143000"/>
            <a:ext cx="7286760" cy="542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7320" y="285840"/>
            <a:ext cx="9715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ransacción - Tarja al </a:t>
            </a:r>
            <a:r>
              <a:rPr b="1" i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Detalle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de EER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02800" y="714240"/>
            <a:ext cx="9698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1714680" y="1643040"/>
            <a:ext cx="8192880" cy="4357800"/>
          </a:xfrm>
          <a:prstGeom prst="rect">
            <a:avLst/>
          </a:prstGeom>
          <a:ln w="0">
            <a:noFill/>
          </a:ln>
        </p:spPr>
      </p:pic>
      <p:sp>
        <p:nvSpPr>
          <p:cNvPr id="204" name="7 Rectángulo"/>
          <p:cNvSpPr/>
          <p:nvPr/>
        </p:nvSpPr>
        <p:spPr>
          <a:xfrm>
            <a:off x="2724840" y="1214280"/>
            <a:ext cx="57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Arial"/>
              </a:rPr>
              <a:t>Estructura del DUIMHDR2-Doc. de Transporte del Manifiesto EE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9375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Tarja al Detalle de EER - Validaciones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02800" y="714240"/>
            <a:ext cx="9912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0" y="928800"/>
          <a:ext cx="7215120" cy="5437080"/>
        </p:xfrm>
        <a:graphic>
          <a:graphicData uri="http://schemas.openxmlformats.org/drawingml/2006/table">
            <a:tbl>
              <a:tblPr/>
              <a:tblGrid>
                <a:gridCol w="2119320"/>
                <a:gridCol w="4065480"/>
                <a:gridCol w="1030320"/>
              </a:tblGrid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LA DE NEGOCIO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CION DEL ERROR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DIGO DE ERROR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que el Manifiesto EER exista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Se valida que manifiesto EER declarado exista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121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no duplicar numero de orden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Se valida que la orden no haya sido numerada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001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fecha de termino de traslado (documentos de transporte)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Se valida que los Documentos de transporte asociados al Manifiesto EER, cuenten con fecha de término de traslado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28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los documentos de transporte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Se valida que documento de transporte este declarado en la base de datos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33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los documentos de transporte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Se valida que envié documento de transporte registrado en la base de datos se rechaza el envío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34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pesos (datos generales y detalle)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La cantidad total ‘Peso recibido’ (</a:t>
                      </a:r>
                      <a:r>
                        <a:rPr b="1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DUIMHDR1.TPESO_RECI</a:t>
                      </a: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) será &gt; cero y concuerde ∑ peso recibido detalle (</a:t>
                      </a:r>
                      <a:r>
                        <a:rPr b="1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DUIMGUIA.TPESO_RECI</a:t>
                      </a: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)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18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bultos (datos generales y detalle)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La cantidad total ´Bultos recibidos’ (</a:t>
                      </a:r>
                      <a:r>
                        <a:rPr b="1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DUIMHDR1.CANT_BRECI</a:t>
                      </a: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) será  &gt; cero y  ∑  bultos recibidos detalle (</a:t>
                      </a:r>
                      <a:r>
                        <a:rPr b="1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DUIMGUIA.CANT_BRECI</a:t>
                      </a: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)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19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cantidad de guías enviadas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La “Cantidad de Guías ERR” (</a:t>
                      </a:r>
                      <a:r>
                        <a:rPr b="1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DUIMHDR1.NODETA</a:t>
                      </a: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) sea &gt; cero y concuerde con la cantidad de guías declaradas (</a:t>
                      </a:r>
                      <a:r>
                        <a:rPr b="1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DUIMGUIA</a:t>
                      </a: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), debe corresponder a lo declarado en el Manifiesto EER (</a:t>
                      </a:r>
                      <a:r>
                        <a:rPr b="1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tabla MCDETA</a:t>
                      </a: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)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20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peso recibido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Se valida por guía que ‘Peso en buen estado’ + ´Peso malo’ =  ‘Peso recibido’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30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 guías declaradas en mal estado.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P</a:t>
                      </a: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ara guías en mal estado, se debe declarar “Acta de inventario de mercancías en mal estado” (</a:t>
                      </a:r>
                      <a:r>
                        <a:rPr b="1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DUIMGUIA.ANOACTMEST y NUMACTMEST</a:t>
                      </a:r>
                      <a:r>
                        <a:rPr b="0" lang="es-ES" sz="10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250</a:t>
                      </a:r>
                      <a:endParaRPr b="0" lang="en-US" sz="1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23:48:39Z</dcterms:created>
  <dc:creator>SUNAT</dc:creator>
  <dc:description/>
  <dc:language>en-US</dc:language>
  <cp:lastModifiedBy>prueba</cp:lastModifiedBy>
  <dcterms:modified xsi:type="dcterms:W3CDTF">2010-11-23T19:39:24Z</dcterms:modified>
  <cp:revision>1208</cp:revision>
  <dc:subject/>
  <dc:title>ESTADO DE LA GPGF</dc:title>
</cp:coreProperties>
</file>