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6.wmf" ContentType="image/x-wmf"/>
  <Override PartName="/ppt/media/image9.jpeg" ContentType="image/jpeg"/>
  <Override PartName="/ppt/media/image11.png" ContentType="image/png"/>
  <Override PartName="/ppt/media/image36.png" ContentType="image/png"/>
  <Override PartName="/ppt/media/image41.png" ContentType="image/png"/>
  <Override PartName="/ppt/media/image31.png" ContentType="image/png"/>
  <Override PartName="/ppt/media/image39.png" ContentType="image/png"/>
  <Override PartName="/ppt/media/image42.wmf" ContentType="image/x-wmf"/>
  <Override PartName="/ppt/media/image43.png" ContentType="image/png"/>
  <Override PartName="/ppt/media/image13.png" ContentType="image/png"/>
  <Override PartName="/ppt/media/image37.png" ContentType="image/png"/>
  <Override PartName="/ppt/media/image44.jpeg" ContentType="image/jpeg"/>
  <Override PartName="/ppt/media/image38.png" ContentType="image/png"/>
  <Override PartName="/ppt/media/image8.png" ContentType="image/png"/>
  <Override PartName="/ppt/media/image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11430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006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345960" y="742680"/>
            <a:ext cx="61912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0595-BC0C-4B90-9BF4-334B3E0B4020}" type="slidenum">
              <a:rPr b="1" lang="es-E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F813-9064-4034-8827-4C6560F45F8E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9326-4E28-400E-9B3C-923082A9EE53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8EFC-661C-4468-BDD9-47528420C4BA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E711-F208-4240-B3D0-B8679FF6CF54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ECA7-44AA-4E5F-90AE-203401BF2AEC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0885-71F5-441F-9CBB-EAE0DCD55046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F8C5-42D3-41DC-8095-EF57FA818EAC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900B-1504-4491-AD42-12BED2C313E5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41AB-2878-4356-96E7-BC7B3EB30C87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28BB-A55D-4998-B87E-95FA53FB3996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5FB4-6AD9-4350-8D21-2C9C9B208E2B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DA54-E4D7-4C5D-838C-10A078BCF71A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6993-428E-49B1-9CC7-C3D25A17C49A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4861-D130-4F3D-8C8B-B333B35F9C96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1F57-7D5E-4501-B9E9-B76DBA400426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C67B-E3A1-41E9-89BE-3986B88BE625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2516-297E-4292-9AAE-7B0227E5BA21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275D-65B6-45AB-B71E-BDD92D81846B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64DE-2BA9-4A9C-969D-713F87AC6BA8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6892-18E2-4817-BA17-29B833020F75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A256-62C2-44D4-B1D9-BAFF973763C7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5296-E123-43D4-826F-5DF89C1D8EF0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DCCC-2ED1-4EEC-95FD-15D182F3868D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42BE-5ACC-4FE1-970B-2F1B3CE4C027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EF2F-D1E3-436F-BB57-524BC31E9768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348A-8DAB-4350-927A-5042242268B4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86E2-C245-41F4-B162-11CE6DE6D07D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17D7-1849-401F-A4E1-A3FD84425641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C3AE-8A21-412C-882F-CA82EBAAB607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AEE2-CBE6-4591-BA61-1BDDBF14DA7C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DD1C-A9D5-44AA-8083-A51FE3CFCA9A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1520-96A0-4CB3-A3D3-3D5BB0794652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745A-47C4-43FF-8A4C-1D13C047BBF6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6FE-90C7-4D41-8FB5-00DCD594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96648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425-FBEE-4EEC-A325-17AF75AA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1218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D82-B140-4F8C-896B-C94D51BA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2800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71264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2800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71264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BE3-825E-4739-9319-CBDEF5F1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D126-6797-4901-B1FB-608D9BE3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C8AE-1777-4323-9D18-15D45219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3D9A-0726-4D86-9115-2A3D0858A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DF27-3956-4A54-9468-B67B4E5A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D384-3A7D-42B4-8ED1-041CAFA0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43000" y="277560"/>
            <a:ext cx="9715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D8E3-2A32-4366-BE94-6071FFB1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2C58-9DB4-4CB8-8C43-9B0AC1D2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323-D6EF-46EF-B181-A1F34A5D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18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315E-B53A-4214-B348-049BA663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72AD-3046-43BD-A4D8-98562712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43000" y="396648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8431-64BB-41BC-9C3E-F9988F31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218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581F-9143-4D74-B5F6-3549D44E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800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71264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4300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42800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71264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FF0F-FA7C-468C-B181-643860FE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62E-E96C-4890-A216-0458C615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7AB4-2EC7-49D6-9AB8-FFF9EB5D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89F-E239-4D5D-AF5D-3CA24197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277560"/>
            <a:ext cx="9715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272-A55A-4679-9188-E4D1B13E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1D5A-997E-4CD7-B14B-508E95C6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218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E88-78A6-46D4-8048-2D8ED670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317-8E55-457D-A2F0-2F6EBF69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98a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8a3f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8a3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8a3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2640" y="6251400"/>
            <a:ext cx="247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1120" y="6248520"/>
            <a:ext cx="371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76920" y="6248520"/>
            <a:ext cx="2381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9699-F300-479D-8643-92D856ABB6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C:\Mis documentos\Documentos EDI\Exposiciones\foto2.jpg"/>
          <p:cNvPicPr/>
          <p:nvPr/>
        </p:nvPicPr>
        <p:blipFill>
          <a:blip r:embed="rId2"/>
          <a:stretch/>
        </p:blipFill>
        <p:spPr>
          <a:xfrm>
            <a:off x="0" y="0"/>
            <a:ext cx="11430000" cy="533520"/>
          </a:xfrm>
          <a:prstGeom prst="rect">
            <a:avLst/>
          </a:prstGeom>
          <a:ln w="0">
            <a:noFill/>
          </a:ln>
        </p:spPr>
      </p:pic>
      <p:sp>
        <p:nvSpPr>
          <p:cNvPr id="7" name="Line 9"/>
          <p:cNvSpPr/>
          <p:nvPr/>
        </p:nvSpPr>
        <p:spPr>
          <a:xfrm>
            <a:off x="380880" y="1371600"/>
            <a:ext cx="10668240" cy="0"/>
          </a:xfrm>
          <a:prstGeom prst="line">
            <a:avLst/>
          </a:prstGeom>
          <a:ln w="38160">
            <a:solidFill>
              <a:srgbClr val="5a84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2190600" cy="6858000"/>
          </a:xfrm>
          <a:prstGeom prst="rect">
            <a:avLst/>
          </a:prstGeom>
          <a:solidFill>
            <a:srgbClr val="98a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2"/>
          <a:srcRect l="47003" t="26000" r="0" b="63340"/>
          <a:stretch/>
        </p:blipFill>
        <p:spPr>
          <a:xfrm>
            <a:off x="0" y="3124080"/>
            <a:ext cx="11430000" cy="685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8a3f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8a3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8a3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141560" y="6251400"/>
            <a:ext cx="238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192560" y="6248520"/>
            <a:ext cx="361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476920" y="6248520"/>
            <a:ext cx="2381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E4FE-5438-47E2-AD73-E8B89A18FB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5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42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42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image" Target="../media/image43.png"/><Relationship Id="rId13" Type="http://schemas.openxmlformats.org/officeDocument/2006/relationships/image" Target="../media/image44.jpeg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hyperlink" Target="http://www.sunat.gob.pe/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7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3160" y="1571760"/>
            <a:ext cx="97156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egímen Aduanero Especial de Envíos de Entrega Rápida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97" name="Picture 7" descr="foto2"/>
          <p:cNvPicPr/>
          <p:nvPr/>
        </p:nvPicPr>
        <p:blipFill>
          <a:blip r:embed="rId3"/>
          <a:stretch/>
        </p:blipFill>
        <p:spPr>
          <a:xfrm>
            <a:off x="268200" y="2928960"/>
            <a:ext cx="10626840" cy="811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5268960" y="5357880"/>
            <a:ext cx="51782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214760" y="3962160"/>
            <a:ext cx="314316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66720" y="6019920"/>
            <a:ext cx="10001160" cy="304560"/>
          </a:xfrm>
          <a:prstGeom prst="rect">
            <a:avLst/>
          </a:prstGeom>
          <a:solidFill>
            <a:srgbClr val="000066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 u="sng">
                <a:solidFill>
                  <a:srgbClr val="ffffff"/>
                </a:solidFill>
                <a:uFillTx/>
                <a:latin typeface="Arial"/>
              </a:rPr>
              <a:t>SUNAT –  2010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0" y="785880"/>
            <a:ext cx="11430000" cy="285840"/>
          </a:xfrm>
          <a:prstGeom prst="rect">
            <a:avLst/>
          </a:prstGeom>
          <a:solidFill>
            <a:srgbClr val="000066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8143920" y="6429240"/>
            <a:ext cx="25002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iciembre 2010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857160" y="4143240"/>
            <a:ext cx="971568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egistros por el portal de la Sunat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28760" y="1071360"/>
            <a:ext cx="9929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1.-   Ingrese al menú de manifi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Envío de Entrega Rápida por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portal de sun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Operatividad Aduanera/                                                                                 Seleccione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Despacho/                                                                                                        se mostra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Manifiesto Envío de                                                                                        la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Entrega rápida                                                                                                 pant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a.  Registro del acta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5 Flecha derecha"/>
          <p:cNvSpPr/>
          <p:nvPr/>
        </p:nvSpPr>
        <p:spPr>
          <a:xfrm rot="10800000">
            <a:off x="7891200" y="3357720"/>
            <a:ext cx="609480" cy="142560"/>
          </a:xfrm>
          <a:prstGeom prst="rightArrow">
            <a:avLst>
              <a:gd name="adj1" fmla="val 50000"/>
              <a:gd name="adj2" fmla="val 500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286240" y="1467000"/>
            <a:ext cx="2448000" cy="4676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57120" y="856800"/>
            <a:ext cx="10304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2.-   Ingrese los datos que se está solicitando registra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7 Imagen" descr="registroooo.jpg"/>
          <p:cNvPicPr/>
          <p:nvPr/>
        </p:nvPicPr>
        <p:blipFill>
          <a:blip r:embed="rId3"/>
          <a:stretch/>
        </p:blipFill>
        <p:spPr>
          <a:xfrm>
            <a:off x="1571760" y="1785960"/>
            <a:ext cx="8929440" cy="43052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a.  Registro del acta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56800" y="857160"/>
            <a:ext cx="10037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dicaciones sobre los datos que se solicitan registr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714760" y="1357200"/>
          <a:ext cx="6500520" cy="5342040"/>
        </p:xfrm>
        <a:graphic>
          <a:graphicData uri="http://schemas.openxmlformats.org/drawingml/2006/table">
            <a:tbl>
              <a:tblPr/>
              <a:tblGrid>
                <a:gridCol w="3530520"/>
                <a:gridCol w="2970000"/>
              </a:tblGrid>
              <a:tr h="29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o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icaciones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po de documento de transport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leccione de la lista desplegable si es : 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recto o  Consolidado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úmero de documento de transporte máster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grese  un dato numérico de 11 dígitos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mpresa de transport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leccione de una lista desplegable la línea aérea en la que vendrá la carga EER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ro. de vuelo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istre un dato numérico de máximo de 4 dígitos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cha y hora de llegada del vuelo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istre fecha válida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ntidad de  bultos manifestados 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l Doc. Transporte máster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istre un dato numérico de máximo 15 dígitos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so bruto manifestado 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l Doc. Transporte máster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istre un dato numérico máximo 11 enteros y 3 decimales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a.  Registro del acta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02800" y="713880"/>
            <a:ext cx="9858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3.-   Una vez registrado los datos se procede a grabar la inform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a.  Registro del acta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571680" y="1571760"/>
            <a:ext cx="10501200" cy="4714920"/>
          </a:xfrm>
          <a:prstGeom prst="rect">
            <a:avLst/>
          </a:prstGeom>
          <a:ln w="0">
            <a:noFill/>
          </a:ln>
        </p:spPr>
      </p:pic>
      <p:cxnSp>
        <p:nvCxnSpPr>
          <p:cNvPr id="186" name="5 Conector recto de flecha"/>
          <p:cNvCxnSpPr/>
          <p:nvPr/>
        </p:nvCxnSpPr>
        <p:spPr>
          <a:xfrm flipH="1" flipV="1">
            <a:off x="5714640" y="6214680"/>
            <a:ext cx="1000800" cy="192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7" name="11 CuadroTexto"/>
          <p:cNvSpPr/>
          <p:nvPr/>
        </p:nvSpPr>
        <p:spPr>
          <a:xfrm>
            <a:off x="6858000" y="6215040"/>
            <a:ext cx="214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cione para grabar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85880" y="713880"/>
            <a:ext cx="9858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4.-   Una vez grabada la información se muestra el mensaje de grab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exit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a.  Registro del acta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3357720" y="2571840"/>
            <a:ext cx="42861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85880" y="928440"/>
            <a:ext cx="9858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P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a.  Consulta del acta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3"/>
          <a:stretch/>
        </p:blipFill>
        <p:spPr>
          <a:xfrm>
            <a:off x="714240" y="1285920"/>
            <a:ext cx="10014120" cy="4572000"/>
          </a:xfrm>
          <a:prstGeom prst="rect">
            <a:avLst/>
          </a:prstGeom>
          <a:ln w="0">
            <a:noFill/>
          </a:ln>
        </p:spPr>
      </p:pic>
      <p:cxnSp>
        <p:nvCxnSpPr>
          <p:cNvPr id="198" name="7 Conector recto de flecha"/>
          <p:cNvCxnSpPr/>
          <p:nvPr/>
        </p:nvCxnSpPr>
        <p:spPr>
          <a:xfrm flipH="1" flipV="1">
            <a:off x="5643360" y="5643360"/>
            <a:ext cx="786240" cy="357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9" name="11 CuadroTexto"/>
          <p:cNvSpPr/>
          <p:nvPr/>
        </p:nvSpPr>
        <p:spPr>
          <a:xfrm>
            <a:off x="6572160" y="5929200"/>
            <a:ext cx="37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cione si desea imprimir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785880" y="713880"/>
            <a:ext cx="9858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a.  Registro del acta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2714760" y="1000080"/>
            <a:ext cx="5972040" cy="551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5600" y="2356920"/>
            <a:ext cx="8072280" cy="16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b.  Consulta del Acta de Trasl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28760" y="1071360"/>
            <a:ext cx="9929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1.-   Para consultar el acta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traslado Ingrese a la op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Consultar A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Seleccione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se mostra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la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pant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b.  Consulta del acta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" name="5 Flecha derecha"/>
          <p:cNvSpPr/>
          <p:nvPr/>
        </p:nvSpPr>
        <p:spPr>
          <a:xfrm rot="10800000">
            <a:off x="7715160" y="4571640"/>
            <a:ext cx="609840" cy="1429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13" name="7 Imagen" descr="menucact.jpg"/>
          <p:cNvPicPr/>
          <p:nvPr/>
        </p:nvPicPr>
        <p:blipFill>
          <a:blip r:embed="rId3"/>
          <a:stretch/>
        </p:blipFill>
        <p:spPr>
          <a:xfrm>
            <a:off x="4809960" y="1900080"/>
            <a:ext cx="261972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b.  Consulta del acta de traslado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13880" y="713880"/>
            <a:ext cx="9858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2_ a.- Ingresar un rango de fechas ,  y se mostrará una lista de actas de trasl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Proceda a seleccionar el acta a consult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f53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9 Imagen" descr="cact.jpg"/>
          <p:cNvPicPr/>
          <p:nvPr/>
        </p:nvPicPr>
        <p:blipFill>
          <a:blip r:embed="rId3"/>
          <a:stretch/>
        </p:blipFill>
        <p:spPr>
          <a:xfrm>
            <a:off x="714240" y="1571760"/>
            <a:ext cx="9786960" cy="3448080"/>
          </a:xfrm>
          <a:prstGeom prst="rect">
            <a:avLst/>
          </a:prstGeom>
          <a:ln w="0">
            <a:noFill/>
          </a:ln>
        </p:spPr>
      </p:pic>
      <p:sp>
        <p:nvSpPr>
          <p:cNvPr id="219" name="7 Elipse"/>
          <p:cNvSpPr/>
          <p:nvPr/>
        </p:nvSpPr>
        <p:spPr>
          <a:xfrm>
            <a:off x="785880" y="4714920"/>
            <a:ext cx="1357200" cy="357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" name="8 Conector recto"/>
          <p:cNvSpPr/>
          <p:nvPr/>
        </p:nvSpPr>
        <p:spPr>
          <a:xfrm>
            <a:off x="4643280" y="3214800"/>
            <a:ext cx="4286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1" name="9 Conector recto"/>
          <p:cNvSpPr/>
          <p:nvPr/>
        </p:nvSpPr>
        <p:spPr>
          <a:xfrm>
            <a:off x="4643280" y="2786040"/>
            <a:ext cx="4286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11 Conector recto"/>
          <p:cNvSpPr/>
          <p:nvPr/>
        </p:nvSpPr>
        <p:spPr>
          <a:xfrm>
            <a:off x="4643280" y="2786040"/>
            <a:ext cx="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13 Conector recto"/>
          <p:cNvSpPr/>
          <p:nvPr/>
        </p:nvSpPr>
        <p:spPr>
          <a:xfrm>
            <a:off x="8929800" y="2786040"/>
            <a:ext cx="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14680" y="2143080"/>
            <a:ext cx="82864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1.- Alc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71680" y="713880"/>
            <a:ext cx="9858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2_ b .- Ingresar por Número. de acta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Se mostrará la información del acta en la siguiente pantal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f53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b.  Consulta del acta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3"/>
          <a:srcRect l="19922" t="17811" r="6251" b="42817"/>
          <a:stretch/>
        </p:blipFill>
        <p:spPr>
          <a:xfrm>
            <a:off x="500040" y="1428840"/>
            <a:ext cx="10001160" cy="3929040"/>
          </a:xfrm>
          <a:prstGeom prst="rect">
            <a:avLst/>
          </a:prstGeom>
          <a:ln w="0">
            <a:noFill/>
          </a:ln>
        </p:spPr>
      </p:pic>
      <p:sp>
        <p:nvSpPr>
          <p:cNvPr id="229" name="7 Elipse"/>
          <p:cNvSpPr/>
          <p:nvPr/>
        </p:nvSpPr>
        <p:spPr>
          <a:xfrm>
            <a:off x="642960" y="4857840"/>
            <a:ext cx="1357200" cy="357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" name="6 Conector recto"/>
          <p:cNvSpPr/>
          <p:nvPr/>
        </p:nvSpPr>
        <p:spPr>
          <a:xfrm>
            <a:off x="4429080" y="2928960"/>
            <a:ext cx="3500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1" name="8 Conector recto"/>
          <p:cNvSpPr/>
          <p:nvPr/>
        </p:nvSpPr>
        <p:spPr>
          <a:xfrm>
            <a:off x="4429080" y="2928960"/>
            <a:ext cx="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2" name="9 Conector recto"/>
          <p:cNvSpPr/>
          <p:nvPr/>
        </p:nvSpPr>
        <p:spPr>
          <a:xfrm>
            <a:off x="7929720" y="2928960"/>
            <a:ext cx="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3" name="10 Conector recto"/>
          <p:cNvSpPr/>
          <p:nvPr/>
        </p:nvSpPr>
        <p:spPr>
          <a:xfrm>
            <a:off x="4429080" y="3357720"/>
            <a:ext cx="3500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785880" y="928440"/>
            <a:ext cx="9858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3.-  Una vez seleccionada el acta, se muestra su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b.  Consulta del acta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3"/>
          <a:stretch/>
        </p:blipFill>
        <p:spPr>
          <a:xfrm>
            <a:off x="558720" y="1571760"/>
            <a:ext cx="1001412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571400" y="2356920"/>
            <a:ext cx="8072280" cy="16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c.   Registro del Inicio de Trasl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28760" y="1071360"/>
            <a:ext cx="9929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1.-   Para Registrar el inicio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traslado ingrese a la op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Inicio del Trasl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Seleccione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se mostra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la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pant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c.  Registro del inicio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6" name="5 Flecha derecha"/>
          <p:cNvSpPr/>
          <p:nvPr/>
        </p:nvSpPr>
        <p:spPr>
          <a:xfrm rot="10800000">
            <a:off x="7715160" y="3642840"/>
            <a:ext cx="609840" cy="1429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7" name="6 Imagen" descr="menues.jpg"/>
          <p:cNvPicPr/>
          <p:nvPr/>
        </p:nvPicPr>
        <p:blipFill>
          <a:blip r:embed="rId3"/>
          <a:stretch/>
        </p:blipFill>
        <p:spPr>
          <a:xfrm>
            <a:off x="4876920" y="1881360"/>
            <a:ext cx="2409840" cy="39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57120" y="713880"/>
            <a:ext cx="10304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2.-   Ingresar el número de a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 mostrará los datos del act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c.  Registro del inicio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2" name="Picture 7" descr=""/>
          <p:cNvPicPr/>
          <p:nvPr/>
        </p:nvPicPr>
        <p:blipFill>
          <a:blip r:embed="rId3"/>
          <a:stretch/>
        </p:blipFill>
        <p:spPr>
          <a:xfrm>
            <a:off x="500040" y="1428840"/>
            <a:ext cx="10501200" cy="1500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"/>
          <p:cNvPicPr/>
          <p:nvPr/>
        </p:nvPicPr>
        <p:blipFill>
          <a:blip r:embed="rId4"/>
          <a:stretch/>
        </p:blipFill>
        <p:spPr>
          <a:xfrm>
            <a:off x="500040" y="3500280"/>
            <a:ext cx="10501200" cy="2714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57120" y="856800"/>
            <a:ext cx="10304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3.- Ingrese el manifiesto de 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 mostrará el peso y bulto tarjado del manifiest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c.  Registro del inicio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785880" y="1928880"/>
            <a:ext cx="9001080" cy="642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4"/>
          <a:stretch/>
        </p:blipFill>
        <p:spPr>
          <a:xfrm>
            <a:off x="857160" y="3786120"/>
            <a:ext cx="900108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57120" y="856800"/>
            <a:ext cx="10304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4. – Ingrese los manifiestos EER   (los que se trasladen con dicha a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Una vez registrado, se mostrarán los documentos de transporte del manifiesto 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Deberá seleccionar el documento de transporte hijo o directo del manifiesto 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que se traslada con dicha a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c.  Registro del inicio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64" name="Picture 7" descr=""/>
          <p:cNvPicPr/>
          <p:nvPr/>
        </p:nvPicPr>
        <p:blipFill>
          <a:blip r:embed="rId3"/>
          <a:stretch/>
        </p:blipFill>
        <p:spPr>
          <a:xfrm>
            <a:off x="857160" y="1857240"/>
            <a:ext cx="8929800" cy="785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"/>
          <p:cNvPicPr/>
          <p:nvPr/>
        </p:nvPicPr>
        <p:blipFill>
          <a:blip r:embed="rId4"/>
          <a:stretch/>
        </p:blipFill>
        <p:spPr>
          <a:xfrm>
            <a:off x="928800" y="3286080"/>
            <a:ext cx="8858160" cy="18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785880" y="713880"/>
            <a:ext cx="9858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5. - Ingrese placa de vehículo y preci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 registra  la placa y el precinto  ,  luego se selecciona para el grab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c.  Registro del inicio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70" name="Picture 7" descr=""/>
          <p:cNvPicPr/>
          <p:nvPr/>
        </p:nvPicPr>
        <p:blipFill>
          <a:blip r:embed="rId3"/>
          <a:stretch/>
        </p:blipFill>
        <p:spPr>
          <a:xfrm>
            <a:off x="1357200" y="1643040"/>
            <a:ext cx="8501040" cy="714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4"/>
          <a:stretch/>
        </p:blipFill>
        <p:spPr>
          <a:xfrm>
            <a:off x="1428840" y="3786120"/>
            <a:ext cx="88963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85880" y="713880"/>
            <a:ext cx="9858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6. - Ingrese fecha y hora de inicio de trasl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7.-  finalmente presione Gra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c.  Registro del inicio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76" name="Picture 10" descr=""/>
          <p:cNvPicPr/>
          <p:nvPr/>
        </p:nvPicPr>
        <p:blipFill>
          <a:blip r:embed="rId3"/>
          <a:stretch/>
        </p:blipFill>
        <p:spPr>
          <a:xfrm>
            <a:off x="1357200" y="2143080"/>
            <a:ext cx="7715520" cy="1000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"/>
          <p:cNvPicPr/>
          <p:nvPr/>
        </p:nvPicPr>
        <p:blipFill>
          <a:blip r:embed="rId4"/>
          <a:stretch/>
        </p:blipFill>
        <p:spPr>
          <a:xfrm>
            <a:off x="5143680" y="3857760"/>
            <a:ext cx="42861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856800" y="1143000"/>
            <a:ext cx="10037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alida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c.  Registro del inicio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3"/>
          <a:stretch/>
        </p:blipFill>
        <p:spPr>
          <a:xfrm>
            <a:off x="2643120" y="1670040"/>
            <a:ext cx="7715160" cy="461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228600"/>
            <a:ext cx="971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5560" y="1285560"/>
            <a:ext cx="8929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égimen Aduanero :   </a:t>
            </a:r>
            <a:r>
              <a:rPr b="0" lang="es-ES" sz="2400" spc="-1" strike="noStrike">
                <a:solidFill>
                  <a:srgbClr val="1326b3"/>
                </a:solidFill>
                <a:latin typeface="Arial"/>
              </a:rPr>
              <a:t>Manifiesto de envíos de entrega ráp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326b3"/>
                </a:solidFill>
                <a:latin typeface="Arial"/>
              </a:rPr>
              <a:t>                                       </a:t>
            </a:r>
            <a:r>
              <a:rPr b="0" lang="es-ES" sz="2400" spc="-1" strike="noStrike">
                <a:solidFill>
                  <a:srgbClr val="1326b3"/>
                </a:solidFill>
                <a:latin typeface="Arial"/>
              </a:rPr>
              <a:t>(Régimen 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rma                       :   </a:t>
            </a:r>
            <a:r>
              <a:rPr b="0" lang="es-PE" sz="2400" spc="-1" strike="noStrike">
                <a:solidFill>
                  <a:srgbClr val="1326b3"/>
                </a:solidFill>
                <a:latin typeface="Arial"/>
              </a:rPr>
              <a:t>D. S. 011-2009-EF (Regla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326b3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1326b3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1326b3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1326b3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1326b3"/>
                </a:solidFill>
                <a:latin typeface="Arial"/>
              </a:rPr>
              <a:t>      </a:t>
            </a:r>
            <a:r>
              <a:rPr b="0" lang="es-PE" sz="2400" spc="-1" strike="noStrike">
                <a:solidFill>
                  <a:srgbClr val="1326b3"/>
                </a:solidFill>
                <a:latin typeface="Arial"/>
              </a:rPr>
              <a:t>D. S. 137-2010-EF (Modificato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igencia                    :   </a:t>
            </a:r>
            <a:r>
              <a:rPr b="0" lang="es-ES" sz="2400" spc="-1" strike="noStrike">
                <a:solidFill>
                  <a:srgbClr val="1326b3"/>
                </a:solidFill>
                <a:latin typeface="Arial"/>
              </a:rPr>
              <a:t>01 / 02 /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duanas                    :  </a:t>
            </a:r>
            <a:r>
              <a:rPr b="0" lang="es-ES" sz="2400" spc="-1" strike="noStrike">
                <a:solidFill>
                  <a:srgbClr val="1326b3"/>
                </a:solidFill>
                <a:latin typeface="Arial"/>
              </a:rPr>
              <a:t>Intendencia Aduana Aérea del Call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499760" y="2356920"/>
            <a:ext cx="8572680" cy="16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d.  Registro del Término de Trasl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42600" y="1071360"/>
            <a:ext cx="10215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1.-   Para Registrar 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término del trasl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ingrese a la opció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Termino del Trasl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leccione y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mostrará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iguiente pant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d.  Registro del término de traslado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3"/>
          <a:stretch/>
        </p:blipFill>
        <p:spPr>
          <a:xfrm>
            <a:off x="4000680" y="1500120"/>
            <a:ext cx="3057480" cy="4695840"/>
          </a:xfrm>
          <a:prstGeom prst="rect">
            <a:avLst/>
          </a:prstGeom>
          <a:ln w="0">
            <a:noFill/>
          </a:ln>
        </p:spPr>
      </p:pic>
      <p:sp>
        <p:nvSpPr>
          <p:cNvPr id="291" name="7 Flecha derecha"/>
          <p:cNvSpPr/>
          <p:nvPr/>
        </p:nvSpPr>
        <p:spPr>
          <a:xfrm rot="10800000">
            <a:off x="7248240" y="4357440"/>
            <a:ext cx="609480" cy="142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d.  Registro del término de traslado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3"/>
          <a:stretch/>
        </p:blipFill>
        <p:spPr>
          <a:xfrm>
            <a:off x="1643040" y="1785960"/>
            <a:ext cx="8001000" cy="15717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4"/>
          <p:cNvSpPr/>
          <p:nvPr/>
        </p:nvSpPr>
        <p:spPr>
          <a:xfrm>
            <a:off x="500040" y="857160"/>
            <a:ext cx="103046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2.-   Ingresar el número de acta   y presionar botón buscar 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 mostrará en la siguiente pantalla  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- Los datos del acta de traslado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- Los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Manifiestos EER asociados al acta , los cuales han iniciado traslado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143000" y="1599840"/>
            <a:ext cx="971568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d.  Registro del término de traslado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1" name="9 CuadroTexto"/>
          <p:cNvSpPr/>
          <p:nvPr/>
        </p:nvSpPr>
        <p:spPr>
          <a:xfrm>
            <a:off x="9144000" y="269064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os del acta de traslado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2" name="11 CuadroTexto"/>
          <p:cNvSpPr/>
          <p:nvPr/>
        </p:nvSpPr>
        <p:spPr>
          <a:xfrm>
            <a:off x="9215280" y="392904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ifiestos EER asociados al acta,  los cuales han iniciado traslado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4"/>
          <a:stretch/>
        </p:blipFill>
        <p:spPr>
          <a:xfrm>
            <a:off x="1000080" y="1562040"/>
            <a:ext cx="7905960" cy="4367160"/>
          </a:xfrm>
          <a:prstGeom prst="rect">
            <a:avLst/>
          </a:prstGeom>
          <a:ln w="0">
            <a:noFill/>
          </a:ln>
        </p:spPr>
      </p:pic>
      <p:cxnSp>
        <p:nvCxnSpPr>
          <p:cNvPr id="304" name="13 Conector recto de flecha"/>
          <p:cNvCxnSpPr/>
          <p:nvPr/>
        </p:nvCxnSpPr>
        <p:spPr>
          <a:xfrm flipH="1">
            <a:off x="6428520" y="2999160"/>
            <a:ext cx="271548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5" name="15 Conector recto de flecha"/>
          <p:cNvCxnSpPr/>
          <p:nvPr/>
        </p:nvCxnSpPr>
        <p:spPr>
          <a:xfrm flipH="1">
            <a:off x="8357400" y="4619520"/>
            <a:ext cx="85788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d.  Registro del término de traslado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285840" y="1143000"/>
            <a:ext cx="1030428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3.-   Ingresar  la cantidad de viajes realizados   y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fecha y hora de termino del traslado del último bulto al deposito EER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4.- Finalmente grabar información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3"/>
          <a:stretch/>
        </p:blipFill>
        <p:spPr>
          <a:xfrm>
            <a:off x="1571760" y="2500200"/>
            <a:ext cx="7224480" cy="15004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"/>
          <p:cNvPicPr/>
          <p:nvPr/>
        </p:nvPicPr>
        <p:blipFill>
          <a:blip r:embed="rId4"/>
          <a:stretch/>
        </p:blipFill>
        <p:spPr>
          <a:xfrm>
            <a:off x="5143680" y="4500720"/>
            <a:ext cx="428616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56800" y="857160"/>
            <a:ext cx="10037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alidacion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d.  Registro del término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928880" y="2071800"/>
          <a:ext cx="8072280" cy="3855960"/>
        </p:xfrm>
        <a:graphic>
          <a:graphicData uri="http://schemas.openxmlformats.org/drawingml/2006/table">
            <a:tbl>
              <a:tblPr/>
              <a:tblGrid>
                <a:gridCol w="4362480"/>
                <a:gridCol w="370980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o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idación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0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ño y número de Acta de traslado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Acta debe existir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Valida que el operador que está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istrando sea el mismo DTEER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que numeró el acta 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ntidad de viajes realizados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o numérico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cha y hora del término del traslado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Fecha debe ser posterior a la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cha de inicio de traslado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Fecha no debe ser mayor a la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cha y hora de registro en el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istema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1 Rectángulo"/>
          <p:cNvSpPr/>
          <p:nvPr/>
        </p:nvSpPr>
        <p:spPr>
          <a:xfrm>
            <a:off x="3786120" y="4429080"/>
            <a:ext cx="1428840" cy="2143080"/>
          </a:xfrm>
          <a:prstGeom prst="rect">
            <a:avLst/>
          </a:prstGeom>
          <a:solidFill>
            <a:srgbClr val="b6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18" name="Picture 123" descr=""/>
          <p:cNvPicPr/>
          <p:nvPr/>
        </p:nvPicPr>
        <p:blipFill>
          <a:blip r:embed="rId1"/>
          <a:stretch/>
        </p:blipFill>
        <p:spPr>
          <a:xfrm>
            <a:off x="4000680" y="2786040"/>
            <a:ext cx="863280" cy="5716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7"/>
          <p:cNvSpPr/>
          <p:nvPr/>
        </p:nvSpPr>
        <p:spPr>
          <a:xfrm>
            <a:off x="1219320" y="457200"/>
            <a:ext cx="9753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cesos de Manifiestos -  EER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320" name="11 Grupo"/>
          <p:cNvGrpSpPr/>
          <p:nvPr/>
        </p:nvGrpSpPr>
        <p:grpSpPr>
          <a:xfrm>
            <a:off x="4138560" y="5715000"/>
            <a:ext cx="719280" cy="787320"/>
            <a:chOff x="4138560" y="5715000"/>
            <a:chExt cx="719280" cy="787320"/>
          </a:xfrm>
        </p:grpSpPr>
        <p:grpSp>
          <p:nvGrpSpPr>
            <p:cNvPr id="321" name="10 Grupo"/>
            <p:cNvGrpSpPr/>
            <p:nvPr/>
          </p:nvGrpSpPr>
          <p:grpSpPr>
            <a:xfrm>
              <a:off x="4138560" y="5894280"/>
              <a:ext cx="574920" cy="608040"/>
              <a:chOff x="4138560" y="5894280"/>
              <a:chExt cx="574920" cy="608040"/>
            </a:xfrm>
          </p:grpSpPr>
          <p:pic>
            <p:nvPicPr>
              <p:cNvPr id="322" name="Object 2" descr=""/>
              <p:cNvPicPr/>
              <p:nvPr/>
            </p:nvPicPr>
            <p:blipFill>
              <a:blip r:embed="rId2"/>
              <a:stretch/>
            </p:blipFill>
            <p:spPr>
              <a:xfrm>
                <a:off x="4138560" y="6000480"/>
                <a:ext cx="433800" cy="50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Object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278240" y="5894280"/>
                <a:ext cx="435240" cy="501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24" name="Object 4" descr=""/>
            <p:cNvPicPr/>
            <p:nvPr/>
          </p:nvPicPr>
          <p:blipFill>
            <a:blip r:embed="rId4"/>
            <a:stretch/>
          </p:blipFill>
          <p:spPr>
            <a:xfrm>
              <a:off x="4424400" y="5715000"/>
              <a:ext cx="433440" cy="50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12 Multidocumento"/>
          <p:cNvSpPr/>
          <p:nvPr/>
        </p:nvSpPr>
        <p:spPr>
          <a:xfrm>
            <a:off x="4000680" y="5143680"/>
            <a:ext cx="928440" cy="500040"/>
          </a:xfrm>
          <a:prstGeom prst="flowChartMultidocument">
            <a:avLst/>
          </a:prstGeom>
          <a:solidFill>
            <a:srgbClr val="7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6" name="13 CuadroTexto"/>
          <p:cNvSpPr/>
          <p:nvPr/>
        </p:nvSpPr>
        <p:spPr>
          <a:xfrm>
            <a:off x="3929040" y="4857840"/>
            <a:ext cx="121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Doc.Transporte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3679920" y="4500720"/>
            <a:ext cx="16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Manifiesto Carg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328" name="18 Grupo"/>
          <p:cNvGrpSpPr/>
          <p:nvPr/>
        </p:nvGrpSpPr>
        <p:grpSpPr>
          <a:xfrm>
            <a:off x="1119240" y="2651040"/>
            <a:ext cx="652320" cy="750960"/>
            <a:chOff x="1119240" y="2651040"/>
            <a:chExt cx="652320" cy="750960"/>
          </a:xfrm>
        </p:grpSpPr>
        <p:grpSp>
          <p:nvGrpSpPr>
            <p:cNvPr id="329" name="10 Grupo"/>
            <p:cNvGrpSpPr/>
            <p:nvPr/>
          </p:nvGrpSpPr>
          <p:grpSpPr>
            <a:xfrm>
              <a:off x="1119240" y="2793960"/>
              <a:ext cx="507960" cy="608040"/>
              <a:chOff x="1119240" y="2793960"/>
              <a:chExt cx="507960" cy="608040"/>
            </a:xfrm>
          </p:grpSpPr>
          <p:pic>
            <p:nvPicPr>
              <p:cNvPr id="330" name="Object 8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9240" y="2900160"/>
                <a:ext cx="433440" cy="50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Object 9" descr=""/>
              <p:cNvPicPr/>
              <p:nvPr/>
            </p:nvPicPr>
            <p:blipFill>
              <a:blip r:embed="rId6"/>
              <a:stretch/>
            </p:blipFill>
            <p:spPr>
              <a:xfrm>
                <a:off x="1191960" y="2793960"/>
                <a:ext cx="435240" cy="501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32" name="Object 10" descr=""/>
            <p:cNvPicPr/>
            <p:nvPr/>
          </p:nvPicPr>
          <p:blipFill>
            <a:blip r:embed="rId7"/>
            <a:stretch/>
          </p:blipFill>
          <p:spPr>
            <a:xfrm>
              <a:off x="1338120" y="2651040"/>
              <a:ext cx="433440" cy="501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3" name="Object 11" descr=""/>
          <p:cNvPicPr/>
          <p:nvPr/>
        </p:nvPicPr>
        <p:blipFill>
          <a:blip r:embed="rId8"/>
          <a:stretch/>
        </p:blipFill>
        <p:spPr>
          <a:xfrm>
            <a:off x="2428920" y="2863800"/>
            <a:ext cx="433440" cy="501840"/>
          </a:xfrm>
          <a:prstGeom prst="rect">
            <a:avLst/>
          </a:prstGeom>
          <a:ln w="0">
            <a:noFill/>
          </a:ln>
        </p:spPr>
      </p:pic>
      <p:pic>
        <p:nvPicPr>
          <p:cNvPr id="334" name="Object 12" descr=""/>
          <p:cNvPicPr/>
          <p:nvPr/>
        </p:nvPicPr>
        <p:blipFill>
          <a:blip r:embed="rId9"/>
          <a:stretch/>
        </p:blipFill>
        <p:spPr>
          <a:xfrm>
            <a:off x="2500200" y="2757600"/>
            <a:ext cx="435240" cy="5014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9"/>
          <p:cNvSpPr/>
          <p:nvPr/>
        </p:nvSpPr>
        <p:spPr>
          <a:xfrm>
            <a:off x="714240" y="1857240"/>
            <a:ext cx="16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Manifiesto E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6" name="26 Documento"/>
          <p:cNvSpPr/>
          <p:nvPr/>
        </p:nvSpPr>
        <p:spPr>
          <a:xfrm>
            <a:off x="2357280" y="2786040"/>
            <a:ext cx="571680" cy="428760"/>
          </a:xfrm>
          <a:prstGeom prst="flowChartDocument">
            <a:avLst/>
          </a:prstGeom>
          <a:solidFill>
            <a:srgbClr val="b8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Doc. 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Transp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7" name="27 CuadroTexto"/>
          <p:cNvSpPr/>
          <p:nvPr/>
        </p:nvSpPr>
        <p:spPr>
          <a:xfrm>
            <a:off x="2500200" y="185724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Acta Traslado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8" name="28 Conector recto"/>
          <p:cNvSpPr/>
          <p:nvPr/>
        </p:nvSpPr>
        <p:spPr>
          <a:xfrm>
            <a:off x="928800" y="2286000"/>
            <a:ext cx="121428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9" name="Text Box 58"/>
          <p:cNvSpPr/>
          <p:nvPr/>
        </p:nvSpPr>
        <p:spPr>
          <a:xfrm>
            <a:off x="380880" y="3844800"/>
            <a:ext cx="219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ER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0" name="32 Conector recto"/>
          <p:cNvSpPr/>
          <p:nvPr/>
        </p:nvSpPr>
        <p:spPr>
          <a:xfrm flipV="1">
            <a:off x="2319480" y="2286000"/>
            <a:ext cx="153828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4857840" y="1785960"/>
            <a:ext cx="16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gistro de inicio de traslado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42" name="Picture 24" descr=""/>
          <p:cNvPicPr/>
          <p:nvPr/>
        </p:nvPicPr>
        <p:blipFill>
          <a:blip r:embed="rId10"/>
          <a:stretch/>
        </p:blipFill>
        <p:spPr>
          <a:xfrm>
            <a:off x="5072040" y="2500200"/>
            <a:ext cx="1357200" cy="8575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2" descr="10-Solidaridad-Peru-DHL"/>
          <p:cNvPicPr/>
          <p:nvPr/>
        </p:nvPicPr>
        <p:blipFill>
          <a:blip r:embed="rId11"/>
          <a:stretch/>
        </p:blipFill>
        <p:spPr>
          <a:xfrm>
            <a:off x="6738840" y="2500200"/>
            <a:ext cx="1363680" cy="8575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9"/>
          <p:cNvSpPr/>
          <p:nvPr/>
        </p:nvSpPr>
        <p:spPr>
          <a:xfrm>
            <a:off x="6572160" y="1784520"/>
            <a:ext cx="16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gistro de termino del traslado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9537840" y="1782720"/>
            <a:ext cx="16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nformación Confirmatori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49 Conector recto"/>
          <p:cNvSpPr/>
          <p:nvPr/>
        </p:nvSpPr>
        <p:spPr>
          <a:xfrm>
            <a:off x="9858240" y="2286000"/>
            <a:ext cx="11430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7" name="50 Multidocumento"/>
          <p:cNvSpPr/>
          <p:nvPr/>
        </p:nvSpPr>
        <p:spPr>
          <a:xfrm>
            <a:off x="9858240" y="2643120"/>
            <a:ext cx="928800" cy="785880"/>
          </a:xfrm>
          <a:prstGeom prst="flowChartMultidocument">
            <a:avLst/>
          </a:prstGeom>
          <a:solidFill>
            <a:srgbClr val="98a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8" name="51 CuadroTexto"/>
          <p:cNvSpPr/>
          <p:nvPr/>
        </p:nvSpPr>
        <p:spPr>
          <a:xfrm>
            <a:off x="9882360" y="2928960"/>
            <a:ext cx="64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Datado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9" name="54 Esquina doblada"/>
          <p:cNvSpPr/>
          <p:nvPr/>
        </p:nvSpPr>
        <p:spPr>
          <a:xfrm>
            <a:off x="3214800" y="2500200"/>
            <a:ext cx="571320" cy="928800"/>
          </a:xfrm>
          <a:prstGeom prst="foldedCorner">
            <a:avLst>
              <a:gd name="adj" fmla="val 16666"/>
            </a:avLst>
          </a:prstGeom>
          <a:solidFill>
            <a:srgbClr val="98a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</a:rPr>
              <a:t>Acta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</a:rPr>
              <a:t>Traslado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0" name="55 Flecha derecha"/>
          <p:cNvSpPr/>
          <p:nvPr/>
        </p:nvSpPr>
        <p:spPr>
          <a:xfrm>
            <a:off x="3000240" y="2857680"/>
            <a:ext cx="21456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51" name="56 Flecha doblada hacia arriba" descr=""/>
          <p:cNvPicPr/>
          <p:nvPr/>
        </p:nvPicPr>
        <p:blipFill>
          <a:blip r:embed="rId12"/>
          <a:stretch/>
        </p:blipFill>
        <p:spPr>
          <a:xfrm>
            <a:off x="2548080" y="5041800"/>
            <a:ext cx="1182600" cy="401760"/>
          </a:xfrm>
          <a:prstGeom prst="rect">
            <a:avLst/>
          </a:prstGeom>
          <a:ln w="0">
            <a:noFill/>
          </a:ln>
        </p:spPr>
      </p:pic>
      <p:sp>
        <p:nvSpPr>
          <p:cNvPr id="352" name="58 Flecha izquierda y arriba"/>
          <p:cNvSpPr/>
          <p:nvPr/>
        </p:nvSpPr>
        <p:spPr>
          <a:xfrm>
            <a:off x="5286240" y="5072040"/>
            <a:ext cx="5214960" cy="357120"/>
          </a:xfrm>
          <a:custGeom>
            <a:avLst/>
            <a:gdLst>
              <a:gd name="textAreaLeft" fmla="*/ 44640 w 5214960"/>
              <a:gd name="textAreaRight" fmla="*/ 5125680 w 5214960"/>
              <a:gd name="textAreaTop" fmla="*/ 223200 h 357120"/>
              <a:gd name="textAreaBottom" fmla="*/ 312480 h 357120"/>
            </a:gdLst>
            <a:ahLst/>
            <a:rect l="textAreaLeft" t="textAreaTop" r="textAreaRight" b="textAreaBottom"/>
            <a:pathLst>
              <a:path w="5214938" h="357187">
                <a:moveTo>
                  <a:pt x="0" y="267890"/>
                </a:moveTo>
                <a:lnTo>
                  <a:pt x="89297" y="178594"/>
                </a:lnTo>
                <a:lnTo>
                  <a:pt x="89297" y="223242"/>
                </a:lnTo>
                <a:lnTo>
                  <a:pt x="5080993" y="223242"/>
                </a:lnTo>
                <a:lnTo>
                  <a:pt x="5080993" y="89297"/>
                </a:lnTo>
                <a:lnTo>
                  <a:pt x="5036345" y="89297"/>
                </a:lnTo>
                <a:lnTo>
                  <a:pt x="5125641" y="0"/>
                </a:lnTo>
                <a:lnTo>
                  <a:pt x="5214938" y="89297"/>
                </a:lnTo>
                <a:lnTo>
                  <a:pt x="5170290" y="89297"/>
                </a:lnTo>
                <a:lnTo>
                  <a:pt x="5170290" y="312539"/>
                </a:lnTo>
                <a:lnTo>
                  <a:pt x="89297" y="312539"/>
                </a:lnTo>
                <a:lnTo>
                  <a:pt x="89297" y="357187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3" name="63 CuadroTexto"/>
          <p:cNvSpPr/>
          <p:nvPr/>
        </p:nvSpPr>
        <p:spPr>
          <a:xfrm>
            <a:off x="785880" y="4498920"/>
            <a:ext cx="1714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000000"/>
                </a:solidFill>
                <a:latin typeface="Arial"/>
              </a:rPr>
              <a:t>2  Horas antes llegada medio de transporte.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54" name="Picture 15" descr="inspeccion-quesos"/>
          <p:cNvPicPr/>
          <p:nvPr/>
        </p:nvPicPr>
        <p:blipFill>
          <a:blip r:embed="rId13"/>
          <a:stretch/>
        </p:blipFill>
        <p:spPr>
          <a:xfrm>
            <a:off x="8263080" y="2500200"/>
            <a:ext cx="1380960" cy="9637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9"/>
          <p:cNvSpPr/>
          <p:nvPr/>
        </p:nvSpPr>
        <p:spPr>
          <a:xfrm>
            <a:off x="8358120" y="185724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Tarja al Detall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6" name="Text Box 58"/>
          <p:cNvSpPr/>
          <p:nvPr/>
        </p:nvSpPr>
        <p:spPr>
          <a:xfrm>
            <a:off x="9715680" y="378612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ER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4929120" y="3381480"/>
            <a:ext cx="3357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del punto de llegada hacia el Dep. Temp. EER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8" name="53 Conector recto"/>
          <p:cNvSpPr/>
          <p:nvPr/>
        </p:nvSpPr>
        <p:spPr>
          <a:xfrm>
            <a:off x="5072040" y="3643200"/>
            <a:ext cx="30718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9" name="59 Conector recto"/>
          <p:cNvSpPr/>
          <p:nvPr/>
        </p:nvSpPr>
        <p:spPr>
          <a:xfrm>
            <a:off x="2357280" y="3786120"/>
            <a:ext cx="142884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0" name="61 Conector recto"/>
          <p:cNvSpPr/>
          <p:nvPr/>
        </p:nvSpPr>
        <p:spPr>
          <a:xfrm>
            <a:off x="928800" y="3786120"/>
            <a:ext cx="12142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1" name="64 Conector recto"/>
          <p:cNvSpPr/>
          <p:nvPr/>
        </p:nvSpPr>
        <p:spPr>
          <a:xfrm>
            <a:off x="8286840" y="2286000"/>
            <a:ext cx="1357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2" name="68 Conector recto"/>
          <p:cNvSpPr/>
          <p:nvPr/>
        </p:nvSpPr>
        <p:spPr>
          <a:xfrm>
            <a:off x="9929880" y="3786120"/>
            <a:ext cx="107136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3" name="73 CuadroTexto"/>
          <p:cNvSpPr/>
          <p:nvPr/>
        </p:nvSpPr>
        <p:spPr>
          <a:xfrm>
            <a:off x="3929040" y="389556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Llegada d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la nav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4" name="74 Conector recto"/>
          <p:cNvSpPr/>
          <p:nvPr/>
        </p:nvSpPr>
        <p:spPr>
          <a:xfrm>
            <a:off x="3929040" y="3786120"/>
            <a:ext cx="10000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5" name="78 Conector recto"/>
          <p:cNvSpPr/>
          <p:nvPr/>
        </p:nvSpPr>
        <p:spPr>
          <a:xfrm>
            <a:off x="5072040" y="3776760"/>
            <a:ext cx="4581720" cy="93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6" name="Text Box 58"/>
          <p:cNvSpPr/>
          <p:nvPr/>
        </p:nvSpPr>
        <p:spPr>
          <a:xfrm>
            <a:off x="2214720" y="3813120"/>
            <a:ext cx="16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posito 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ER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7" name="Text Box 58"/>
          <p:cNvSpPr/>
          <p:nvPr/>
        </p:nvSpPr>
        <p:spPr>
          <a:xfrm>
            <a:off x="5857920" y="3857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posito Temporal EER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8" name="54 Conector recto"/>
          <p:cNvSpPr/>
          <p:nvPr/>
        </p:nvSpPr>
        <p:spPr>
          <a:xfrm>
            <a:off x="5072040" y="2286000"/>
            <a:ext cx="1357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9" name="57 Conector recto"/>
          <p:cNvSpPr/>
          <p:nvPr/>
        </p:nvSpPr>
        <p:spPr>
          <a:xfrm>
            <a:off x="6715080" y="2286000"/>
            <a:ext cx="1357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1714680" y="2143080"/>
            <a:ext cx="82864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Gra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23" descr=""/>
          <p:cNvPicPr/>
          <p:nvPr/>
        </p:nvPicPr>
        <p:blipFill>
          <a:blip r:embed="rId1"/>
          <a:stretch/>
        </p:blipFill>
        <p:spPr>
          <a:xfrm>
            <a:off x="4572000" y="3500280"/>
            <a:ext cx="863640" cy="571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1219320" y="457200"/>
            <a:ext cx="9753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ros WEB en EER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3" name="Object 11" descr=""/>
          <p:cNvPicPr/>
          <p:nvPr/>
        </p:nvPicPr>
        <p:blipFill>
          <a:blip r:embed="rId2"/>
          <a:stretch/>
        </p:blipFill>
        <p:spPr>
          <a:xfrm>
            <a:off x="2714760" y="3578400"/>
            <a:ext cx="433080" cy="501480"/>
          </a:xfrm>
          <a:prstGeom prst="rect">
            <a:avLst/>
          </a:prstGeom>
          <a:ln w="0">
            <a:noFill/>
          </a:ln>
        </p:spPr>
      </p:pic>
      <p:pic>
        <p:nvPicPr>
          <p:cNvPr id="114" name="Object 12" descr=""/>
          <p:cNvPicPr/>
          <p:nvPr/>
        </p:nvPicPr>
        <p:blipFill>
          <a:blip r:embed="rId3"/>
          <a:stretch/>
        </p:blipFill>
        <p:spPr>
          <a:xfrm>
            <a:off x="2786040" y="3471840"/>
            <a:ext cx="434880" cy="501840"/>
          </a:xfrm>
          <a:prstGeom prst="rect">
            <a:avLst/>
          </a:prstGeom>
          <a:ln w="0">
            <a:noFill/>
          </a:ln>
        </p:spPr>
      </p:pic>
      <p:sp>
        <p:nvSpPr>
          <p:cNvPr id="115" name="26 Documento"/>
          <p:cNvSpPr/>
          <p:nvPr/>
        </p:nvSpPr>
        <p:spPr>
          <a:xfrm>
            <a:off x="2643120" y="3500280"/>
            <a:ext cx="571680" cy="428760"/>
          </a:xfrm>
          <a:prstGeom prst="flowChartDocument">
            <a:avLst/>
          </a:prstGeom>
          <a:solidFill>
            <a:srgbClr val="b8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Doc. 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Transp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27 CuadroTexto"/>
          <p:cNvSpPr/>
          <p:nvPr/>
        </p:nvSpPr>
        <p:spPr>
          <a:xfrm>
            <a:off x="2786040" y="2286000"/>
            <a:ext cx="12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Acta d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Traslado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32 Conector recto"/>
          <p:cNvSpPr/>
          <p:nvPr/>
        </p:nvSpPr>
        <p:spPr>
          <a:xfrm flipV="1">
            <a:off x="2604960" y="2999880"/>
            <a:ext cx="1538280" cy="18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680080" y="2286000"/>
            <a:ext cx="16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egistro del inicio de traslado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9" name="Picture 24" descr=""/>
          <p:cNvPicPr/>
          <p:nvPr/>
        </p:nvPicPr>
        <p:blipFill>
          <a:blip r:embed="rId4"/>
          <a:stretch/>
        </p:blipFill>
        <p:spPr>
          <a:xfrm>
            <a:off x="5823000" y="3214800"/>
            <a:ext cx="1357200" cy="857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2" descr="10-Solidaridad-Peru-DHL"/>
          <p:cNvPicPr/>
          <p:nvPr/>
        </p:nvPicPr>
        <p:blipFill>
          <a:blip r:embed="rId5"/>
          <a:stretch/>
        </p:blipFill>
        <p:spPr>
          <a:xfrm>
            <a:off x="8137440" y="3214800"/>
            <a:ext cx="1363680" cy="857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9"/>
          <p:cNvSpPr/>
          <p:nvPr/>
        </p:nvSpPr>
        <p:spPr>
          <a:xfrm>
            <a:off x="7643880" y="2286000"/>
            <a:ext cx="246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egistro del termino del traslado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54 Esquina doblada"/>
          <p:cNvSpPr/>
          <p:nvPr/>
        </p:nvSpPr>
        <p:spPr>
          <a:xfrm>
            <a:off x="3500280" y="3214800"/>
            <a:ext cx="571680" cy="928440"/>
          </a:xfrm>
          <a:prstGeom prst="foldedCorner">
            <a:avLst>
              <a:gd name="adj" fmla="val 16666"/>
            </a:avLst>
          </a:prstGeom>
          <a:solidFill>
            <a:srgbClr val="98a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</a:rPr>
              <a:t>Acta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</a:rPr>
              <a:t>Traslado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" name="55 Flecha derecha"/>
          <p:cNvSpPr/>
          <p:nvPr/>
        </p:nvSpPr>
        <p:spPr>
          <a:xfrm>
            <a:off x="3286080" y="3571920"/>
            <a:ext cx="21420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59 Conector recto"/>
          <p:cNvSpPr/>
          <p:nvPr/>
        </p:nvSpPr>
        <p:spPr>
          <a:xfrm>
            <a:off x="2643120" y="4500720"/>
            <a:ext cx="142884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5" name="73 CuadroTexto"/>
          <p:cNvSpPr/>
          <p:nvPr/>
        </p:nvSpPr>
        <p:spPr>
          <a:xfrm>
            <a:off x="4500720" y="461016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Llegada d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la nav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74 Conector recto"/>
          <p:cNvSpPr/>
          <p:nvPr/>
        </p:nvSpPr>
        <p:spPr>
          <a:xfrm>
            <a:off x="4500720" y="4500720"/>
            <a:ext cx="10000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" name="Text Box 58"/>
          <p:cNvSpPr/>
          <p:nvPr/>
        </p:nvSpPr>
        <p:spPr>
          <a:xfrm>
            <a:off x="2500200" y="4527720"/>
            <a:ext cx="16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posito 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ER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54 Conector recto"/>
          <p:cNvSpPr/>
          <p:nvPr/>
        </p:nvSpPr>
        <p:spPr>
          <a:xfrm>
            <a:off x="5894280" y="3000240"/>
            <a:ext cx="13575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57 Conector recto"/>
          <p:cNvSpPr/>
          <p:nvPr/>
        </p:nvSpPr>
        <p:spPr>
          <a:xfrm>
            <a:off x="8072280" y="3000240"/>
            <a:ext cx="13575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0" name="66 Elipse"/>
          <p:cNvSpPr/>
          <p:nvPr/>
        </p:nvSpPr>
        <p:spPr>
          <a:xfrm>
            <a:off x="3143160" y="1643040"/>
            <a:ext cx="357120" cy="357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" name="69 Elipse"/>
          <p:cNvSpPr/>
          <p:nvPr/>
        </p:nvSpPr>
        <p:spPr>
          <a:xfrm>
            <a:off x="6108840" y="1643040"/>
            <a:ext cx="428400" cy="357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" name="70 Elipse"/>
          <p:cNvSpPr/>
          <p:nvPr/>
        </p:nvSpPr>
        <p:spPr>
          <a:xfrm>
            <a:off x="8501040" y="1643040"/>
            <a:ext cx="428760" cy="357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" name="72 Conector recto"/>
          <p:cNvSpPr/>
          <p:nvPr/>
        </p:nvSpPr>
        <p:spPr>
          <a:xfrm>
            <a:off x="5823000" y="4500720"/>
            <a:ext cx="142884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4" name="Text Box 58"/>
          <p:cNvSpPr/>
          <p:nvPr/>
        </p:nvSpPr>
        <p:spPr>
          <a:xfrm>
            <a:off x="5680080" y="4527720"/>
            <a:ext cx="16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posito 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ER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5" name="75 Conector recto"/>
          <p:cNvSpPr/>
          <p:nvPr/>
        </p:nvSpPr>
        <p:spPr>
          <a:xfrm>
            <a:off x="8072280" y="4500720"/>
            <a:ext cx="142884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" name="Text Box 58"/>
          <p:cNvSpPr/>
          <p:nvPr/>
        </p:nvSpPr>
        <p:spPr>
          <a:xfrm>
            <a:off x="7858080" y="4527720"/>
            <a:ext cx="16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posito 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ER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00040" y="928440"/>
            <a:ext cx="10429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1.-   Ingresar  a </a:t>
            </a:r>
            <a:r>
              <a:rPr b="0" lang="es-ES" sz="2000" spc="-1" strike="noStrike" u="sng">
                <a:solidFill>
                  <a:srgbClr val="5a84d8"/>
                </a:solidFill>
                <a:uFillTx/>
                <a:latin typeface="Arial"/>
                <a:ea typeface="Arial"/>
                <a:hlinkClick r:id="rId3"/>
              </a:rPr>
              <a:t>www.sunat.gob.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2.-   Ingrese a Operatividad Aduan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se mostrar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la siguiente pantalla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50004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.  Registros Web para EER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4"/>
          <a:stretch/>
        </p:blipFill>
        <p:spPr>
          <a:xfrm>
            <a:off x="5326200" y="2219400"/>
            <a:ext cx="2817720" cy="4209840"/>
          </a:xfrm>
          <a:prstGeom prst="rect">
            <a:avLst/>
          </a:prstGeom>
          <a:ln w="0">
            <a:noFill/>
          </a:ln>
        </p:spPr>
      </p:pic>
      <p:sp>
        <p:nvSpPr>
          <p:cNvPr id="142" name="9 Flecha derecha"/>
          <p:cNvSpPr/>
          <p:nvPr/>
        </p:nvSpPr>
        <p:spPr>
          <a:xfrm>
            <a:off x="3929040" y="4572000"/>
            <a:ext cx="142884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5"/>
          <a:stretch/>
        </p:blipFill>
        <p:spPr>
          <a:xfrm>
            <a:off x="2216160" y="1143000"/>
            <a:ext cx="792792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71680" y="856800"/>
            <a:ext cx="102153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2.-   En el rubro Despa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leccione la op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anifiesto Enví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trega Ráp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   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 mostrará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iguiente pantalla: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4576680" y="2428920"/>
            <a:ext cx="3210120" cy="1714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4"/>
          <a:stretch/>
        </p:blipFill>
        <p:spPr>
          <a:xfrm>
            <a:off x="1504800" y="900000"/>
            <a:ext cx="8420400" cy="1457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50004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.  Registros por el portal de Sunat para EER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5"/>
          <a:stretch/>
        </p:blipFill>
        <p:spPr>
          <a:xfrm>
            <a:off x="4643280" y="4324320"/>
            <a:ext cx="2886120" cy="1390680"/>
          </a:xfrm>
          <a:prstGeom prst="rect">
            <a:avLst/>
          </a:prstGeom>
          <a:ln w="0">
            <a:noFill/>
          </a:ln>
        </p:spPr>
      </p:pic>
      <p:sp>
        <p:nvSpPr>
          <p:cNvPr id="151" name="13 Flecha derecha"/>
          <p:cNvSpPr/>
          <p:nvPr/>
        </p:nvSpPr>
        <p:spPr>
          <a:xfrm flipH="1" rot="10800000">
            <a:off x="3285000" y="5340240"/>
            <a:ext cx="1428840" cy="231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1037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3.-   El usuario ingresar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u usuario y password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El Usuario y passw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rá el mismo que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para sus transmi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vía teledespa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 mostrará el siguiente menú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.  Registros por el portal de Sunat para EER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3"/>
          <a:stretch/>
        </p:blipFill>
        <p:spPr>
          <a:xfrm>
            <a:off x="4000680" y="1285920"/>
            <a:ext cx="6357600" cy="39304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0004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.  Registros por el portal de Sunat para EER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1" name="Picture 8" descr=""/>
          <p:cNvPicPr/>
          <p:nvPr/>
        </p:nvPicPr>
        <p:blipFill>
          <a:blip r:embed="rId3"/>
          <a:stretch/>
        </p:blipFill>
        <p:spPr>
          <a:xfrm>
            <a:off x="3857760" y="1285920"/>
            <a:ext cx="3714480" cy="5000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785960" y="2356920"/>
            <a:ext cx="7858080" cy="16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a.   Registro del Acta de Trasl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23:48:39Z</dcterms:created>
  <dc:creator>SUNAT</dc:creator>
  <dc:description/>
  <dc:language>en-US</dc:language>
  <cp:lastModifiedBy>prueba</cp:lastModifiedBy>
  <dcterms:modified xsi:type="dcterms:W3CDTF">2010-12-01T20:40:09Z</dcterms:modified>
  <cp:revision>1416</cp:revision>
  <dc:subject/>
  <dc:title>ESTADO DE LA GPGF</dc:title>
</cp:coreProperties>
</file>